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EF0A-14FB-421D-B812-42BFF0D4B4E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122F-1927-4A1B-A598-D832F8878DF1}" type="slidenum">
              <a:rPr b="0" lang="pl-PL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94A-C81B-4B5D-8FC7-203F2D9B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7D2-8EB7-4E17-A962-769A05DE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9DFC5-AF3C-4AF2-BBE5-0061669E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0EED9-2EA3-4A2C-A5C6-0BC3158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D7230-9460-48F9-8D2B-9863F1FF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71C62-CF2A-4597-97F5-6C2FFD68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5EE4F-000E-4DFB-8B67-8FF2E4BA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DCB7E-2512-461A-93B7-B5EF594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09971-D1FD-40CF-93FB-462CAE32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37841-8229-40A7-856F-381DBE48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D0038-6AC3-42FB-8927-CE8BD53B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63DB3-92BE-4CD2-A5AD-174BB698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B99-36CB-44D1-A138-88C84828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AA4EA-DCAE-4E20-8832-60FAA9D2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31482-5851-4B5D-A341-ED94563A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CA717-ED01-4077-AFAB-1DDA258D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F8572-E233-4B14-8C54-F8674365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EB1C5-3F8F-442F-AA39-C508AC86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CA9D9-0406-4356-AFED-E282BE1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81857-F8DE-457A-B04E-145AF58E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0AC00-4CEF-4107-B6A8-6785D4BF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80347-B05B-4C76-AC0C-C33AF32A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12CAC-AE89-4188-A2A2-851BCE4B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D13-4F77-411F-ACAF-EBEB583F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DA4E5-7C7F-49AB-8342-285E33D5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3FF6-1909-4CB0-AADF-6C007C4F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DD413-B5B8-4B13-9D19-36A1B2DA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038CB-FDD7-4FB9-BB07-71E766FD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84CC0-8653-40E2-86CB-4C95B50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2B6FE-375D-4B75-A35A-BB6AC21D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287CB-A4A6-4122-BED3-4192679C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66E99-B9A1-41E9-8C2A-74AF737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612DC-028F-4920-86C3-F1C10BB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53AF6-DCD1-4429-8242-C4571EE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312-4C24-4740-BB2F-97572845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9744F-2CF0-4E7C-AA46-4AA55B3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63DC9-757D-4ACB-B59E-D4546157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A50A2-831C-4A0A-BEEB-7681F259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198EE-7979-4C21-B7B1-0381C696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A03A6-722E-4DAD-AE4B-9B66DAF1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04C2F-C8AD-49D5-A2CF-8762C9A8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7D45F-F62B-4793-B68F-2B635DCD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7AB8E-0AE4-4096-8D33-72739CCF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AECF2-B58F-4AC3-B441-B497D48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D7A21-C3AD-4CCE-9C6F-7C96F9D1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8D4A-2251-4025-8CC9-8609F8B9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EE5A3-5A4B-42CD-9CB8-33FBFD7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77095-49AE-4B12-AB54-344447A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D4D6E-5ED2-4753-AA17-1EE74D31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B3FC9-EC35-4250-9B37-C772ED32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44C9B-9AB4-4499-989C-09561D99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C0FFA-0E3E-445B-86EB-2A1D8C01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41A89-B7BF-4238-8073-0A62D4F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C0211-60ED-430A-B681-88990093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F201D-0172-4826-AFC9-8F6EF4C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08429-6BE8-4BBB-B444-A8A3A40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4095-73A1-4790-8359-BB510985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694A5-C485-43D7-BC63-A8842802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B2F77-FC12-4803-8B1A-328511AD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08AD9-4535-4704-A8E5-2D47838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96447-1040-4687-AFF0-A4E9C457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61542-52F9-492E-8A10-AA64FE94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4DAD0-700F-46A0-A02A-C4F0A27C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6647F-C8E9-4A74-951A-EBB3E71B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9351-0B6E-409C-9EB9-C97E52C7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BD60-5418-42AC-9235-B632510F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F1B8-7392-4850-BA3B-D0B6D126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1C83-48C4-4EB7-B935-8AE3816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691-64E9-4561-8533-532DA14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A393-3F94-49C9-9B39-58C68B7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7967-C73F-444A-8A6D-02EB84A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B2AA-69A2-4BBD-B8AF-A6F6239F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80D4-334C-402D-955F-DE206733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B7AC-7107-4D20-AA11-854ECA8D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8036-974C-4348-9A3F-A2D02035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39ED-F78A-4D9B-9AE0-26FC70EB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5EA9-7C28-4A1C-8047-3AD8DBB0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D006-1F86-48A8-A1AF-EA6E0330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5D29-8D96-4194-84EE-E7405DC3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8EA-E264-4462-9666-79CD50BC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E83B-0E2C-4638-B6FE-9CF7C131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EBE5-4A89-45DC-A8F3-BC0F2B1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B893-8063-432E-B741-3042DEB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C655C-E55B-4D61-8D98-8DD0E0E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C2FA9-F8C8-420E-8FF2-406D5E1E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DF50-49F6-45B9-B18A-074B70FE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95C1-9105-4F8C-A79F-B1EF6792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E9D0-4451-43A0-99B5-CC99941A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AFF80-A61C-4190-91C0-EFF8D7FC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9398-9BAE-4DEF-B12D-F943EBAB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E91-80A3-436B-AAE8-E2C4CC62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DAD9-A85A-4B35-B9C4-90CB8BCD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E129-0C61-4857-8CF3-ECA936A3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A900-26BC-4F95-ACA3-FF0832AD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5380-8D0D-4D73-8064-42755932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F491-B7AF-41F5-9CA8-34430CD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D755-3E4E-4665-9E1C-30F8771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B283-DE41-4152-A03F-1C81E0F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41BB-7EB5-4DF7-A1ED-57AC17A2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7367-6462-4421-A22A-71CE5909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5A87A-98F6-4C3B-B3C1-AE2458C8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55C-BC87-446D-B49B-61DA7B62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9ECB-813E-4FFF-9899-1C9EA604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908A-0041-4660-BB6D-243F769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B336-C39E-4810-8496-FEAAA2DA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37E5-2625-4EF9-80C8-B3AE22A2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9C091-A09E-414D-8985-1377135F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B8FDA-6AA8-400D-9BC1-76620AA2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90A0-6FA0-4C34-8DC7-605B0746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D544D-F0CB-4AEA-B277-BB935FF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F74D-0BFE-417D-AAEA-1C5BED3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B61F4-CD63-415C-AB5C-9595EF1A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2E1-9113-4211-876E-F703B8C1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E1BA-415E-449E-A40B-246D2DCF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220E-082F-4952-850A-AD5E63A8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85AA7-3A89-46B6-8E17-14BB9B53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CAF36-8B42-41F0-AB65-671E2AF1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81870-0C41-4DF9-BDDE-552728E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C58F-B031-4093-92E0-08767DC7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D3ED7-8C1C-46B1-9C98-90A1CF6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4E21-4325-4154-AA87-C07D273F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E41A-6AFD-4ED3-8E90-07449FD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075D3-4250-4CB4-B2B4-92DED06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D1D-3802-40D5-B199-0D889E14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FB8E8-C7B7-4570-9B13-7DA5374A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1000D-8BAE-498D-A4AE-9C01CFED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8600-5D15-4B56-874D-B6EC01E0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1D0E8-6805-4F43-BF26-93316C52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89528-DE99-4414-845F-6C60D437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55F6-77CA-4731-8752-9267E94B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D7E15-6DEF-4C1D-88F8-EE65A2C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66A7E-2982-4C32-98C3-C7DF13B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4824A-E71C-4CDE-8D9E-8E844162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6E334-EF1E-4B72-A0E4-06597A84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096-B571-4424-8B03-BE14D75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AECEE-9E33-4199-BCAB-75C5AC5F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9EB5-82D9-41BF-8477-D8E0E1C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6A00-7B37-4F0A-9022-4B87744C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A926E-96CE-4A9B-AE97-FCE71AE5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75F5-1D43-4220-BBAF-8168638B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1E5E-44CE-49D9-8FEA-34D2FFDA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A51E-7D88-435B-B14B-E917D9E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8B27D-576F-4EC4-908A-CD7A163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16CC9-9D6B-425D-B5BA-A1D0128E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25EC9-2C1B-4174-9983-1A9A3257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94C-D31D-4EDB-B660-A18BBD19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AB7C3-2427-4C71-A271-7BB13B04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6728-5296-4952-8595-3EB2E2A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FDBE3-AFFD-424C-AE65-E3AC901A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91A92-6F07-4300-8BA7-062B987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7FA4-CD19-4273-B145-A68DE6CD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549C4-FF0B-4D69-AA43-47D7D6A4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80CD0-57C6-484A-9F3F-E0B12FB2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D3B02-8F8B-4F3B-B9DE-12E1C889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A1D02-D7EF-4F91-A67C-A5022944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64537-FCD6-4594-8069-AEA458E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F6A-C433-4C8A-B67D-C1D230D498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8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E7FD-6F08-4E9C-A291-5FB064771E6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6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AC7A-5064-431E-9519-D7B530232A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4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3B3A-552F-4F65-8D5B-8007AC2536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62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F9C4-FE42-4073-AA45-C11D3B925AC1}" type="slidenum">
              <a:rPr b="0" lang="pl-P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9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610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3377-266A-4B04-8074-3112A3D8ED11}" type="slidenum">
              <a:rPr b="0" lang="pl-P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66B6-7805-4BDA-A37C-99CB93B4DCA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3092-825B-4183-8E61-0D5F1A0E6ED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6FC-FA1D-44EC-8995-8528FD2A504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F293-4510-482D-AF40-6E2012F4A09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4C53-6261-4DBF-BCAD-06B56367579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74ED-5315-40C5-B49A-FDD8D69218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109E-E434-40B9-810D-EA157A7F70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0.png"/><Relationship Id="rId2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4080" y="1668600"/>
            <a:ext cx="773748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572314"/>
                </a:solidFill>
                <a:latin typeface="Candara"/>
              </a:rPr>
              <a:t>Ślad węglowy – środowiskowy i ekologiczny i ich znaczenie dla energetyki 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058920" y="5084640"/>
            <a:ext cx="5400360" cy="126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0e04"/>
                </a:solidFill>
                <a:latin typeface="Gill Sans MT"/>
              </a:rPr>
              <a:t>dr hab. Joanna Kulczycka, prof. A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0e04"/>
                </a:solidFill>
                <a:latin typeface="Gill Sans MT"/>
              </a:rPr>
              <a:t>IGSMiE PAN Krakó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144360" y="-731880"/>
            <a:ext cx="1000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1400040" y="3500280"/>
            <a:ext cx="110016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ymbol zastępczy numeru slajdu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DCC6-F492-432A-8C0B-5C9C0CB66931}" type="slidenum">
              <a:rPr b="0" lang="pl-PL" sz="1100" spc="-1" strike="noStrike">
                <a:solidFill>
                  <a:srgbClr val="4d4d4d"/>
                </a:solidFill>
                <a:latin typeface="Tahom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572314"/>
                </a:solidFill>
                <a:latin typeface="Candara"/>
              </a:rPr>
              <a:t>Ślad ekologiczn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9" name="Picture 4" descr=""/>
          <p:cNvPicPr/>
          <p:nvPr/>
        </p:nvPicPr>
        <p:blipFill>
          <a:blip r:embed="rId1"/>
          <a:stretch/>
        </p:blipFill>
        <p:spPr>
          <a:xfrm>
            <a:off x="993600" y="1557360"/>
            <a:ext cx="8150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8172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Ślad środowiskow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42560" y="1758960"/>
            <a:ext cx="777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437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ndara"/>
              </a:rPr>
              <a:t>Ocena efektywności  środowiskowej  produktów, usług  i  organizacji na  podstawie  kompleksowej oceny  oddziaływania  na  środowisko  w  całym  cyklu życia (LCA),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 algn="just">
              <a:lnSpc>
                <a:spcPct val="90000"/>
              </a:lnSpc>
              <a:spcBef>
                <a:spcPts val="1437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ndara"/>
              </a:rPr>
              <a:t>Analizę  śladu  środowiskowego  organizacji  prowadzi  się  w  ramach  nadrzędnego  celu, jakim  jest  dążenie  do  zmniejszenia  oddziaływania organizacji  na  środowisko,  uwzględniając  działania  w  łańcuchu dostaw  (począwszy  od  wydobycia  surowców,  poprzez  produkcję  i  eksploatację  produktów,  aż  po ostateczne  gospodarowanie  odpadami)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rostokąt 1"/>
          <p:cNvSpPr/>
          <p:nvPr/>
        </p:nvSpPr>
        <p:spPr>
          <a:xfrm>
            <a:off x="949320" y="5732640"/>
            <a:ext cx="820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ndara"/>
                <a:ea typeface="Arial"/>
              </a:rPr>
              <a:t>Źródło: Zalecenie Komisji z dnia 9 kwietnia 2013 r. w sprawie stosowania wspólnych metod pomiaru efektywności środowiskowej w cyklu życia produktów i organizacji oraz informowania o niej, Dziennik Urzędowy L124 Unii Europejskiej, tom 56, ISSN 1997-0766,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623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LCA – definicja UNEP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116000" y="134100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LCA jest procesem oceny efektów, jaki dany wyrób wywiera na środowisko podczas całego życia, poprzez wzrost efektywnego zużycia zasobów i zmniejszenie obciążeń środowiska (liabilities). Ocena wpływu na środowisko może być prowadzona zarówno dla wyrobu jak i dla funkcji. LCA jest traktowane jako „analiza od kołyski do grobu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odstawowymi elementami LCA są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identyfikowanie i ocena ilościowa obciążeń środowiska, tj. zużytych materiałów i energii oraz emisji, i odpadów wprowadzanych do środowisk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cena potencjalnych wpływów tych obciążeń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szacowanie dostępnych opcji w celu zmniejszenia obciążeń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2063-6CFC-4AFB-AA21-9C03DC9E52D3}" type="slidenum">
              <a:rPr b="0" lang="en-US" sz="1100" spc="-1" strike="noStrike">
                <a:solidFill>
                  <a:srgbClr val="4d4d4d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5880" y="115560"/>
            <a:ext cx="78706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Myślenie w kategoriach cyklu życi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97" name="Group 5"/>
          <p:cNvGrpSpPr/>
          <p:nvPr/>
        </p:nvGrpSpPr>
        <p:grpSpPr>
          <a:xfrm>
            <a:off x="1042920" y="1268280"/>
            <a:ext cx="8112960" cy="5617440"/>
            <a:chOff x="1042920" y="1268280"/>
            <a:chExt cx="8112960" cy="5617440"/>
          </a:xfrm>
        </p:grpSpPr>
        <p:grpSp>
          <p:nvGrpSpPr>
            <p:cNvPr id="698" name="Oval 6"/>
            <p:cNvGrpSpPr/>
            <p:nvPr/>
          </p:nvGrpSpPr>
          <p:grpSpPr>
            <a:xfrm>
              <a:off x="2984760" y="1682280"/>
              <a:ext cx="4065120" cy="4718520"/>
              <a:chOff x="2984760" y="1682280"/>
              <a:chExt cx="4065120" cy="4718520"/>
            </a:xfrm>
          </p:grpSpPr>
          <p:pic>
            <p:nvPicPr>
              <p:cNvPr id="699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984760" y="1682280"/>
                <a:ext cx="4065120" cy="471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3632040" y="2399760"/>
                <a:ext cx="2770560" cy="32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1" name="Text Box 3"/>
            <p:cNvSpPr/>
            <p:nvPr/>
          </p:nvSpPr>
          <p:spPr>
            <a:xfrm>
              <a:off x="5280840" y="1939680"/>
              <a:ext cx="1042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Konsumpcja/używan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Text Box 5"/>
            <p:cNvSpPr/>
            <p:nvPr/>
          </p:nvSpPr>
          <p:spPr>
            <a:xfrm>
              <a:off x="5836680" y="4446360"/>
              <a:ext cx="1287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  </a:t>
              </a: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Ponowne użycie, odzysk,       r</a:t>
              </a:r>
              <a:r>
                <a:rPr b="0" lang="en-GB" sz="1400" spc="-1" strike="noStrike">
                  <a:solidFill>
                    <a:srgbClr val="003366"/>
                  </a:solidFill>
                  <a:latin typeface="Gill Sans MT"/>
                </a:rPr>
                <a:t>ecy</a:t>
              </a: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k</a:t>
              </a:r>
              <a:r>
                <a:rPr b="0" lang="en-GB" sz="1400" spc="-1" strike="noStrike">
                  <a:solidFill>
                    <a:srgbClr val="003366"/>
                  </a:solidFill>
                  <a:latin typeface="Gill Sans MT"/>
                </a:rPr>
                <a:t>ling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 Box 6"/>
            <p:cNvSpPr/>
            <p:nvPr/>
          </p:nvSpPr>
          <p:spPr>
            <a:xfrm>
              <a:off x="3925080" y="5195880"/>
              <a:ext cx="1452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Wydobycie zasobów i przeróbk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3076920" y="3234960"/>
              <a:ext cx="115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Produkc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 Box 6"/>
            <p:cNvSpPr/>
            <p:nvPr/>
          </p:nvSpPr>
          <p:spPr>
            <a:xfrm>
              <a:off x="2896200" y="4257720"/>
              <a:ext cx="11480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Projektowan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3655080" y="2072880"/>
              <a:ext cx="12092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Dystrybuc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 Box 3"/>
            <p:cNvSpPr/>
            <p:nvPr/>
          </p:nvSpPr>
          <p:spPr>
            <a:xfrm>
              <a:off x="5964120" y="3179520"/>
              <a:ext cx="8809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Zbiórk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Text Box 33"/>
            <p:cNvSpPr/>
            <p:nvPr/>
          </p:nvSpPr>
          <p:spPr>
            <a:xfrm>
              <a:off x="4424760" y="3509640"/>
              <a:ext cx="11779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pl-PL" sz="1400" spc="-1" strike="noStrike">
                  <a:solidFill>
                    <a:srgbClr val="003366"/>
                  </a:solidFill>
                  <a:latin typeface="Gill Sans MT"/>
                </a:rPr>
                <a:t>Dobra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pl-PL" sz="1400" spc="-1" strike="noStrike">
                  <a:solidFill>
                    <a:srgbClr val="003366"/>
                  </a:solidFill>
                  <a:latin typeface="Gill Sans MT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9" name="Grupa 34"/>
            <p:cNvGrpSpPr/>
            <p:nvPr/>
          </p:nvGrpSpPr>
          <p:grpSpPr>
            <a:xfrm>
              <a:off x="3782520" y="2170440"/>
              <a:ext cx="2364120" cy="3232440"/>
              <a:chOff x="3782520" y="2170440"/>
              <a:chExt cx="2364120" cy="3232440"/>
            </a:xfrm>
          </p:grpSpPr>
          <p:pic>
            <p:nvPicPr>
              <p:cNvPr id="710" name="Strzałka kolista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1880" y="2355480"/>
                <a:ext cx="217476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Picture 38" descr="j0437808"/>
              <p:cNvPicPr/>
              <p:nvPr/>
            </p:nvPicPr>
            <p:blipFill>
              <a:blip r:embed="rId3"/>
              <a:stretch/>
            </p:blipFill>
            <p:spPr>
              <a:xfrm>
                <a:off x="5384160" y="402300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Picture 12" descr="j0437811"/>
              <p:cNvPicPr/>
              <p:nvPr/>
            </p:nvPicPr>
            <p:blipFill>
              <a:blip r:embed="rId4"/>
              <a:stretch/>
            </p:blipFill>
            <p:spPr>
              <a:xfrm>
                <a:off x="4050000" y="261324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Picture 5" descr="j0437820"/>
              <p:cNvPicPr/>
              <p:nvPr/>
            </p:nvPicPr>
            <p:blipFill>
              <a:blip r:embed="rId5"/>
              <a:stretch/>
            </p:blipFill>
            <p:spPr>
              <a:xfrm>
                <a:off x="3989880" y="431244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Picture 9" descr="j0437852"/>
              <p:cNvPicPr/>
              <p:nvPr/>
            </p:nvPicPr>
            <p:blipFill>
              <a:blip r:embed="rId6"/>
              <a:stretch/>
            </p:blipFill>
            <p:spPr>
              <a:xfrm>
                <a:off x="5163480" y="2225520"/>
                <a:ext cx="670680" cy="9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Picture 5" descr="j0437816"/>
              <p:cNvPicPr/>
              <p:nvPr/>
            </p:nvPicPr>
            <p:blipFill>
              <a:blip r:embed="rId7"/>
              <a:stretch/>
            </p:blipFill>
            <p:spPr>
              <a:xfrm>
                <a:off x="3782520" y="345348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6" name="Picture 4" descr="j0437821"/>
              <p:cNvPicPr/>
              <p:nvPr/>
            </p:nvPicPr>
            <p:blipFill>
              <a:blip r:embed="rId8"/>
              <a:stretch/>
            </p:blipFill>
            <p:spPr>
              <a:xfrm>
                <a:off x="4592160" y="217044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7" name="Picture 7" descr="j0437855"/>
              <p:cNvPicPr/>
              <p:nvPr/>
            </p:nvPicPr>
            <p:blipFill>
              <a:blip r:embed="rId9"/>
              <a:stretch/>
            </p:blipFill>
            <p:spPr>
              <a:xfrm>
                <a:off x="5519880" y="308052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18" name="Line 24" descr=""/>
            <p:cNvPicPr/>
            <p:nvPr/>
          </p:nvPicPr>
          <p:blipFill>
            <a:blip r:embed="rId10"/>
            <a:stretch/>
          </p:blipFill>
          <p:spPr>
            <a:xfrm>
              <a:off x="2393640" y="2334600"/>
              <a:ext cx="101304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Line 22" descr=""/>
            <p:cNvPicPr/>
            <p:nvPr/>
          </p:nvPicPr>
          <p:blipFill>
            <a:blip r:embed="rId11"/>
            <a:stretch/>
          </p:blipFill>
          <p:spPr>
            <a:xfrm>
              <a:off x="2315520" y="3547800"/>
              <a:ext cx="8020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12" descr=""/>
            <p:cNvPicPr/>
            <p:nvPr/>
          </p:nvPicPr>
          <p:blipFill>
            <a:blip r:embed="rId12"/>
            <a:stretch/>
          </p:blipFill>
          <p:spPr>
            <a:xfrm>
              <a:off x="1127880" y="3379680"/>
              <a:ext cx="128952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13" descr=""/>
            <p:cNvPicPr/>
            <p:nvPr/>
          </p:nvPicPr>
          <p:blipFill>
            <a:blip r:embed="rId13"/>
            <a:stretch/>
          </p:blipFill>
          <p:spPr>
            <a:xfrm>
              <a:off x="1042920" y="5023080"/>
              <a:ext cx="1459440" cy="142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14"/>
            <p:cNvSpPr/>
            <p:nvPr/>
          </p:nvSpPr>
          <p:spPr>
            <a:xfrm>
              <a:off x="1127880" y="4672080"/>
              <a:ext cx="14025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Materiał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Text Box 15"/>
            <p:cNvSpPr/>
            <p:nvPr/>
          </p:nvSpPr>
          <p:spPr>
            <a:xfrm>
              <a:off x="1127880" y="6362640"/>
              <a:ext cx="1768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Wykorzystanie terenu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Text Box 16"/>
            <p:cNvSpPr/>
            <p:nvPr/>
          </p:nvSpPr>
          <p:spPr>
            <a:xfrm>
              <a:off x="1127880" y="1268280"/>
              <a:ext cx="165060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Zasoby, np.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Text Box 35"/>
            <p:cNvSpPr/>
            <p:nvPr/>
          </p:nvSpPr>
          <p:spPr>
            <a:xfrm>
              <a:off x="1127880" y="3036600"/>
              <a:ext cx="14025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Energ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6" name="Picture 37" descr="1241437424ei21T8"/>
            <p:cNvPicPr/>
            <p:nvPr/>
          </p:nvPicPr>
          <p:blipFill>
            <a:blip r:embed="rId14"/>
            <a:stretch/>
          </p:blipFill>
          <p:spPr>
            <a:xfrm>
              <a:off x="1127880" y="1766520"/>
              <a:ext cx="128772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17" descr=""/>
            <p:cNvPicPr/>
            <p:nvPr/>
          </p:nvPicPr>
          <p:blipFill>
            <a:blip r:embed="rId15"/>
            <a:stretch/>
          </p:blipFill>
          <p:spPr>
            <a:xfrm>
              <a:off x="7569000" y="1749240"/>
              <a:ext cx="13327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 Box 18"/>
            <p:cNvSpPr/>
            <p:nvPr/>
          </p:nvSpPr>
          <p:spPr>
            <a:xfrm>
              <a:off x="7451280" y="3036600"/>
              <a:ext cx="14292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0" tIns="48240" bIns="4824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Zmiany klimatu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9" name="Picture 19" descr=""/>
            <p:cNvPicPr/>
            <p:nvPr/>
          </p:nvPicPr>
          <p:blipFill>
            <a:blip r:embed="rId16"/>
            <a:stretch/>
          </p:blipFill>
          <p:spPr>
            <a:xfrm>
              <a:off x="7569000" y="3389040"/>
              <a:ext cx="1332720" cy="12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 Box 20"/>
            <p:cNvSpPr/>
            <p:nvPr/>
          </p:nvSpPr>
          <p:spPr>
            <a:xfrm>
              <a:off x="7478280" y="4672080"/>
              <a:ext cx="14025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0" tIns="48240" bIns="4824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Gill Sans MT"/>
                </a:rPr>
                <a:t>E</a:t>
              </a: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utrofizac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Text Box 21"/>
            <p:cNvSpPr/>
            <p:nvPr/>
          </p:nvSpPr>
          <p:spPr>
            <a:xfrm>
              <a:off x="7129440" y="6362640"/>
              <a:ext cx="17510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0" tIns="48240" bIns="4824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Substancje toksyczn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Picture 36" descr="1241454099F5x65d"/>
            <p:cNvPicPr/>
            <p:nvPr/>
          </p:nvPicPr>
          <p:blipFill>
            <a:blip r:embed="rId17"/>
            <a:stretch/>
          </p:blipFill>
          <p:spPr>
            <a:xfrm>
              <a:off x="7569000" y="5090040"/>
              <a:ext cx="1332720" cy="12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40"/>
            <p:cNvSpPr/>
            <p:nvPr/>
          </p:nvSpPr>
          <p:spPr>
            <a:xfrm>
              <a:off x="6109560" y="1282320"/>
              <a:ext cx="304632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0" tIns="48240" bIns="4824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Zdrowie ludzkie i środowisko np.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 Box 5"/>
            <p:cNvSpPr/>
            <p:nvPr/>
          </p:nvSpPr>
          <p:spPr>
            <a:xfrm>
              <a:off x="5436360" y="5068800"/>
              <a:ext cx="1317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Odzysk e</a:t>
              </a:r>
              <a:r>
                <a:rPr b="0" lang="en-GB" sz="1400" spc="-1" strike="noStrike">
                  <a:solidFill>
                    <a:srgbClr val="003366"/>
                  </a:solidFill>
                  <a:latin typeface="Gill Sans MT"/>
                </a:rPr>
                <a:t>nerg</a:t>
              </a: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ii, składowan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Line 22" descr=""/>
            <p:cNvPicPr/>
            <p:nvPr/>
          </p:nvPicPr>
          <p:blipFill>
            <a:blip r:embed="rId18"/>
            <a:stretch/>
          </p:blipFill>
          <p:spPr>
            <a:xfrm>
              <a:off x="6959520" y="3547800"/>
              <a:ext cx="67536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Line 24" descr=""/>
            <p:cNvPicPr/>
            <p:nvPr/>
          </p:nvPicPr>
          <p:blipFill>
            <a:blip r:embed="rId19"/>
            <a:stretch/>
          </p:blipFill>
          <p:spPr>
            <a:xfrm>
              <a:off x="2405880" y="5205960"/>
              <a:ext cx="101304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Line 24" descr=""/>
            <p:cNvPicPr/>
            <p:nvPr/>
          </p:nvPicPr>
          <p:blipFill>
            <a:blip r:embed="rId20"/>
            <a:stretch/>
          </p:blipFill>
          <p:spPr>
            <a:xfrm>
              <a:off x="6639840" y="5242320"/>
              <a:ext cx="101304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Line 24" descr=""/>
            <p:cNvPicPr/>
            <p:nvPr/>
          </p:nvPicPr>
          <p:blipFill>
            <a:blip r:embed="rId21"/>
            <a:stretch/>
          </p:blipFill>
          <p:spPr>
            <a:xfrm>
              <a:off x="6634080" y="2297880"/>
              <a:ext cx="101304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Symbol zastępczy zawartości 4" descr=""/>
          <p:cNvPicPr/>
          <p:nvPr/>
        </p:nvPicPr>
        <p:blipFill>
          <a:blip r:embed="rId1"/>
          <a:stretch/>
        </p:blipFill>
        <p:spPr>
          <a:xfrm>
            <a:off x="1177920" y="1557360"/>
            <a:ext cx="7877160" cy="4896000"/>
          </a:xfrm>
          <a:prstGeom prst="rect">
            <a:avLst/>
          </a:prstGeom>
          <a:ln w="0">
            <a:noFill/>
          </a:ln>
        </p:spPr>
      </p:pic>
      <p:sp>
        <p:nvSpPr>
          <p:cNvPr id="740" name="Title 1"/>
          <p:cNvSpPr/>
          <p:nvPr/>
        </p:nvSpPr>
        <p:spPr>
          <a:xfrm>
            <a:off x="1146240" y="115920"/>
            <a:ext cx="7870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  <a:ea typeface="Arial"/>
              </a:rPr>
              <a:t>Etapy cyklu ży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LCA –NORMY ISO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115640" y="1600200"/>
            <a:ext cx="777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ISO 14040;2009 - Zarządzanie środowiskowe – ocena cyklu życia – zasady i struktura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ISO 14044;2009 - Zarządzanie środowiskowe – ocena cyklu życia – wymagania i wytycz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ZIELONA ENERGIA ZMIANY SPOŁECZNEJ (ZEZS)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71280" y="141264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EZS to projekt mający na celu 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opracowanie innowacyjnego modelu wspierającego instytucje prospołeczne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m.in. poprzez wykorzystanie offsetowania emisji gazów cieplarnianych, w tym CO2, np. w formie inwestycji w zieloną energię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Realizacja projektu pozwoli rozwiązać szereg problemów związanych np. z 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poprawą efektywności energetycz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gospodarki dzięki zmniejszaniu zużycia energii oraz emisji gazów cieplarnianych do atmosfery poprzez ich neutralizację (offsetowaniu). Dzięki temu  stworzy  się  podstawy dla gospodarki niskoemisyjnej, ograniczającej negatywny wpływ człowieka na klimat, a także rozbudzi innowacyjność i poprawi bezpieczeństwo energetyczn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Efektem projektu jest stworzenie 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innowacyjnego modelu offsetowania emisji CO</a:t>
            </a:r>
            <a:r>
              <a:rPr b="1" lang="pl-PL" sz="2000" spc="-1" strike="noStrike" baseline="-25000">
                <a:solidFill>
                  <a:srgbClr val="00b050"/>
                </a:solidFill>
                <a:latin typeface="Candara"/>
              </a:rPr>
              <a:t>2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,</a:t>
            </a:r>
            <a:r>
              <a:rPr b="0" lang="pl-PL" sz="2000" spc="-1" strike="noStrike">
                <a:solidFill>
                  <a:srgbClr val="00b050"/>
                </a:solidFill>
                <a:latin typeface="Candar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która umożliwi  podmiotom i ich produktom uzyskanie miana „niskoemisyjny lub zeroemisyjny”, wzmacniając jego innowacyjność i konkurencyjność na rynku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Candara"/>
              </a:rPr>
              <a:t>Projekt dofinansowany przez Narodowe Centrum Badań i Rozwoju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5" name="Picture 6" descr="http://spory.gumed.edu.pl/image/image/14878/large/logo_ncbir_jpg.jpg"/>
          <p:cNvPicPr/>
          <p:nvPr/>
        </p:nvPicPr>
        <p:blipFill>
          <a:blip r:embed="rId1"/>
          <a:stretch/>
        </p:blipFill>
        <p:spPr>
          <a:xfrm>
            <a:off x="1055520" y="6226200"/>
            <a:ext cx="9954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Horyzont 2020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434600" y="1447560"/>
            <a:ext cx="500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Efektywność energetyczna 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(17/21 topików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Konkurencyjne technologie niskoemisyjne 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(18/22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Inteligentne miasta i społeczności 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(4) MŚP i szybka ścieżka do innowacji w dziedzinie energii (1) Inne działania (33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andara"/>
              </a:rPr>
              <a:t>http://ec.europa.eu/research/participants/portal/desktop/en/home.htm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1"/>
          <a:srcRect l="7670" t="0" r="7696" b="0"/>
          <a:stretch/>
        </p:blipFill>
        <p:spPr>
          <a:xfrm>
            <a:off x="6443640" y="2060640"/>
            <a:ext cx="273672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Główne cele EU w zakresie efektywności energetycznej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042920" y="1076040"/>
            <a:ext cx="763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Stworzenie w Europie systemu energetycznego czystego, bezpiecznego i efektywnego, zapewniającego UE przemysłową pozycję lidera w niskoemisyjnych technologiach energetycznych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wój i przyspieszenie wprowadzania na rynek przystępnych cenowo i wydajnych rozwiązań technologicznych prowadzących w sposób zrównoważony do dekarbonizacji systemu energetycznego i zapewniających bezpieczeństwo energetyczne zgodnie z celami strategicznego planu w dziedzinie technologii energetycznych (SET-Plan) oraz związanych z nim regulacji (zwłaszcza dotyczących energii odnawialnej i dyrektywy CCS), a także polityki energetycznej w perspektywie roku 2020 oraz kształtowania ram dla rynku energii do roku 2030 i 2050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edukcja do roku 2020 emisji gazów cieplarnianych o 20% poniżej poziomu z roku 1990 i następnie o 80-95% do roku 2050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większenie udziału odnawialnych źródeł energii. OZE powinny pokrywać 20% końcowego zużycia energii w 2020 i większą jego część w roku 2050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sektorze transportu zmniejszenie emisji gazów cieplarnianych do roku 2030 o około 20% poniżej poziomu z 2008 i przynajmniej o 60% do roku 2050 w stosunku do roku 199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Inteligentne  miasta i społeczności – główne ce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042920" y="1076040"/>
            <a:ext cx="763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ill Sans MT"/>
              </a:rPr>
              <a:t>Inteligentne miasta i społeczności (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Smart cities and communities</a:t>
            </a:r>
            <a:r>
              <a:rPr b="1" lang="pl-PL" sz="18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68% populacji EU żyje w miastach i wykorzystuje 70% energii. Zrównoważony rozwój obszarów miejskich jest kluczowym wyzwaniem wymagającym zintegrowanego podejścia Główne cele EU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spieszenie upowszechniania innowacyjnych technologii i usług, rozwiązań organizacyjnych i ekonomicznych wymagających międzysektorowego podejścia w obszarze energii, transportu i ICT w miastach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powszechnianie wyników udanych rozwiązań, usuwanie barier dla innowacji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spieszenie komercyjnego wdrażania rozwiązań i wsparcie działań rynkowych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racjonalizacja i konsolidacja rozwiązań dla inteligentnych miast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zapewnienie spójności uregulowań prawnych oraz standardów polityki i finansowania projektów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80640" y="-360"/>
            <a:ext cx="8163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Ślad węglow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128240" y="1312920"/>
            <a:ext cx="7417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</a:rPr>
              <a:t>Ślad węglow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– jest to całkowita ilość emisji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 i innych gazów cieplarnianych w odniesieniu do produktu, emisji wynikającej z cyklu życia tego produktu, włączając jego składowanie i unieszkodliwiani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ielkość emisji podawana jest w ekwiwalencie dwutlenku węgla –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e. Pozwala ona na przeliczenie na tonę ekwiwalentu dwutlenku węgla (Mg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e) emisji pozostałych gazów cieplarnianych, zgodnie z metodyką zaproponowaną przez Międzyrządowy Panel ds. Zmian Klimatu IPCC (Intergovernmental Panel on Climate Change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5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8028000" y="4183200"/>
            <a:ext cx="11001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Główne obszary działań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042920" y="1220400"/>
            <a:ext cx="763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</a:rPr>
              <a:t>Konkurencyjna energia niskoemisyjna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(22 topiki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Nowa wiedza i technologie (1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dnawialna energia elektryczna, ogrzewanie i chłodzenie (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Modernizacja europejskich sieci energetycznych (2/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apewnienie elastyczności systemu energetycznego przez udoskonalone technologie magazynowania energii (1/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równoważone biopaliwa i paliwa alternatywne dla transportu europejskiego (3/4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łączenie zrównoważonego wykorzystania paliw kopalnych w proces przechodzenia do gospodarki niskoemisyjnej (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sparcie rozwoju badań europejskich w obszarze energii (2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Społeczne, środowiskowe i ekonomiczne aspekty systemów energetycznych (2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agadnienia przekrojowe (1/2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54000"/>
            <a:ext cx="810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EWT - Program Europa Środkow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04256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Gill Sans MT"/>
              </a:rPr>
              <a:t>Celem transnarodowego programu Europa Środkowa jest współpraca ponad granicami, która zmienia miasta i regiony, czyniąc je lepszymi miejscami do życia i pracy. Cel ten zostanie osiągnięty poprzez koncentrację działań programu na priorytetach takich jak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w zakresie innowacji na rzecz zwiększenia konkurencyjności Europy Środkowej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w zakresie strategii niskoemisyjnych w Europie Środkowej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w zakresie zasobów naturalnych i kulturowych na rzecz trwałego wzrostu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na rzecz poprawy powiązań transportowych Europy Środkowej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Gill Sans MT"/>
              </a:rPr>
              <a:t>Program w latach 2014-2020 będzie wspierał głównie działania o charakterze nieinwestycyjnym. W ramach projektów możliwa będzie jednak realizacja inwestycji o charakterze pilotażowym lub demonstracyjnym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81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EWT- Program Region Morza Bałtyckiego 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ndara"/>
              </a:rPr>
              <a:t>Cel główny </a:t>
            </a:r>
            <a:r>
              <a:rPr b="0" lang="pl-PL" sz="2500" spc="-1" strike="noStrike">
                <a:solidFill>
                  <a:srgbClr val="000000"/>
                </a:solidFill>
                <a:latin typeface="Candara"/>
              </a:rPr>
              <a:t>programu: Wzmocnienie zintegrowanego rozwoju terytorialnego i współpracy na rzecz bardziej innowacyjnego, lepiej dostępnego i zrównoważonego Regionu Morza Bałtyckiego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ndara"/>
              </a:rPr>
              <a:t>Budżet: </a:t>
            </a:r>
            <a:r>
              <a:rPr b="0" lang="pl-PL" sz="2500" spc="-1" strike="noStrike">
                <a:solidFill>
                  <a:srgbClr val="000000"/>
                </a:solidFill>
                <a:latin typeface="Candara"/>
              </a:rPr>
              <a:t>264 mln euro (EFRR) oraz ok. 6 mln euro ze środków Norwegii, wkład EIS nie jest jeszcze znany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ndara"/>
              </a:rPr>
              <a:t>Priorytety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ndara"/>
              </a:rPr>
              <a:t>2. Efektywne gospodarowanie zasobami naturalnymi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.2 Energia odnawialn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.3 Efektywność energetyczn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.4 Zasobooszczędny niebieski wzros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81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EWT - Program INTERREG Europ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042560" y="907560"/>
            <a:ext cx="7705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</a:rPr>
              <a:t>Cel ogólny programu: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oprawa wdrażania polityk i programów rozwoju regionalnego poprzez promowanie wymiany doświadczeń i pogłębiania wiedzy w wybranych obszarach polityki, wśród podmiotów regionalnyc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Cele w obszarze energetyk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31840" algn="just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ś priorytetowa 3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Gospodarka niskoemisyj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(Cel tematyczny 4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Wspieranie przejścia na gospodarkę niskoemisyjną we wszystkich sektora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): Promowanie strategii niskoemisyjnych dla wszystkich rodzajów terytoriów, w szczególności dla obszarów miejskich, w tym wspieranie zrównoważonej multimodalnej mobilności miejskiej i działań adaptacyjnych mających oddziaływanie łagodzące na zmiany klimatu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3184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ś priorytetowa 4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Środowisko i efektywne gospodarowanie zasobami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(Cel tematyczny 6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Ochrona środowiska i promowanie efektywnego gospodarowania zasobami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): Zachowanie, ochrona, promowanie i rozwój dziedzictwa naturalnego i kulturoweg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22046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572314"/>
                </a:solidFill>
                <a:latin typeface="Candara"/>
              </a:rPr>
              <a:t>Dziękuję za uwagę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62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7380360" y="3701880"/>
            <a:ext cx="109836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Cele strategii Europa 2020 i KPR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116000" y="1341360"/>
          <a:ext cx="8028000" cy="5121360"/>
        </p:xfrm>
        <a:graphic>
          <a:graphicData uri="http://schemas.openxmlformats.org/drawingml/2006/table">
            <a:tbl>
              <a:tblPr/>
              <a:tblGrid>
                <a:gridCol w="2676600"/>
                <a:gridCol w="2674800"/>
                <a:gridCol w="2676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Główne cele strategii „Europa 202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Obecna sytuacja w Pols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el krajowej strategii 2020 w K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964305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zeznaczenie 3 % PKB UE na inwesty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 badania i rozwó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74 % (2010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graniczenie emisji gazów cieplarnianych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 % w porównaniu z 199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4,5 % (prognozy n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20 w porównaniu z 2005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+12 % (emisje w 2010 r.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orównaniu z 2005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krajowy wiążący cel d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ektorów nieobjęt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TS, w porównaniu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05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zyskiwanie 20 % energii z odnawial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źródeł energ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,4 % (2010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zrost efektywności energetycznej o 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6,9 Mtoe (2010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6 Mt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mniejszenie o 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t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81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Candara"/>
              </a:rPr>
              <a:t>IPCC 2013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560" y="1289160"/>
            <a:ext cx="770580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ersja 5 raportu dotyczącego współczynników GWP (Global Warming Potential) dla analizy śladu węgloweg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1322280" y="2262240"/>
            <a:ext cx="749772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18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Norma ISO 14067:2013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042920" y="980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 MT"/>
              </a:rPr>
              <a:t>ISO 14067 -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Greenhouse gases. Carbon footprint of products. Requirements and guidelines for quantification and communicati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określenie wymogów dla metod związanych z CFP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łatwienie śledzenia emisji GHG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tworzenie spójnych i efektywnych procedur informacyjnych CFP dla zainteresowanych stron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możliwienie lepszego zrozumienia CFP dzięki czemu źródła emisji GHG mogą zostać zidentyfikowane i w efekcie obniżone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dostarczanie informacji o CFP, na bazie których konsumenci będą mogli podejmować świadome decyzje na temat kupowanych produktów i ich wpływu na emisje GHG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tworzenie prawidłowych i porównywalnych wzorców komunikacji w zakresie CFP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zwiększenie wiarygodności, spójności, przejrzystości i sprawozdawczości komunikatów CFP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łatwienie oceny różnych wariantów projektowania produktów oraz metod produkcji, zaopatrzenia i produkcji, wyboru surowców, oceny recyklingu i innych faz procesów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sprawnienie zasad wdrażania strategii planowana i zarządzania gazami cieplarnianymi w całym cyklu życia produktu, jak również zidentyfikowania potencjalnych „oszczędności” w całym łańcuchu dostaw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Określenie śladu węglowego ma za zadanie </a:t>
            </a:r>
            <a:br>
              <a:rPr sz="3200"/>
            </a:br>
            <a:r>
              <a:rPr b="1" lang="pl-PL" sz="1800" spc="-1" strike="noStrike">
                <a:solidFill>
                  <a:srgbClr val="572314"/>
                </a:solidFill>
                <a:latin typeface="Candara"/>
              </a:rPr>
              <a:t>(Norma ISO 14067:2013)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971640" y="2184480"/>
            <a:ext cx="70387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dostarczanie informacji dla konsumentów oraz innych stron na temat ich wpływu na środowisko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odnoszenie świadomości ekologicznej konsumentów oraz angażowanie ich w problematykę środowiskową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spieranie organizacji w celu śledzenia zmian klimatycznych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spieranie implementowania polityki w zakresie zarządzania zmianami klimatycznym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3" name="Picture 2" descr="http://home.agh.edu.pl/%7Egradkow/head/head-images/Logo.png"/>
          <p:cNvPicPr/>
          <p:nvPr/>
        </p:nvPicPr>
        <p:blipFill>
          <a:blip r:embed="rId1"/>
          <a:stretch/>
        </p:blipFill>
        <p:spPr>
          <a:xfrm>
            <a:off x="7740720" y="692280"/>
            <a:ext cx="815760" cy="12571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"/>
          <p:cNvPicPr/>
          <p:nvPr/>
        </p:nvPicPr>
        <p:blipFill>
          <a:blip r:embed="rId2"/>
          <a:srcRect l="37456" t="0" r="0" b="0"/>
          <a:stretch/>
        </p:blipFill>
        <p:spPr>
          <a:xfrm>
            <a:off x="8010360" y="4143240"/>
            <a:ext cx="109872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9040" y="-2700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Kalkulatory śladu węglowego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042920" y="981000"/>
          <a:ext cx="6913800" cy="5478480"/>
        </p:xfrm>
        <a:graphic>
          <a:graphicData uri="http://schemas.openxmlformats.org/drawingml/2006/table">
            <a:tbl>
              <a:tblPr/>
              <a:tblGrid>
                <a:gridCol w="3494160"/>
                <a:gridCol w="3419640"/>
              </a:tblGrid>
              <a:tr h="295200"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Naz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5440">
                <a:tc gridSpan="2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Online / wpływ bezpośredni emitowany przez użytkow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he Carbon Ac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thecarbonaccoun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27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he Carbon Di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carbondiet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30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he Nature Conservancy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nature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27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arbon Footprint Calc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epa.g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3524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Fundacja Aeris Fut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http://aerisfuturo.pl/kalkulator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523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Fundacja Partnerstwo na rzecz środowisk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http://ziemianarozdrozu.pl/kalk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12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Bio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http://biocity.pl/pl/kalk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3080">
                <a:tc gridSpan="2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Bezpośrednie / pośred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arbon Footprint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calculator.carbonfootprin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30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O2List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co2list.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2720">
                <a:tc gridSpan="2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Specjalisty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ravel Matters, US Transit 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travelmatters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677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8010360" y="4143240"/>
            <a:ext cx="1098720" cy="26704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http://home.agh.edu.pl/%7Egradkow/head/head-images/Logo.png"/>
          <p:cNvPicPr/>
          <p:nvPr/>
        </p:nvPicPr>
        <p:blipFill>
          <a:blip r:embed="rId2"/>
          <a:stretch/>
        </p:blipFill>
        <p:spPr>
          <a:xfrm>
            <a:off x="8075520" y="836640"/>
            <a:ext cx="816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2560" y="-273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4f271c"/>
                </a:solidFill>
                <a:latin typeface="Candara"/>
              </a:rPr>
              <a:t>Wielkość emisji CO2e na mieszkańca w krajach UE27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0" name="Obraz 3" descr=""/>
          <p:cNvPicPr/>
          <p:nvPr/>
        </p:nvPicPr>
        <p:blipFill>
          <a:blip r:embed="rId1"/>
          <a:srcRect l="675" t="1221" r="2670" b="1728"/>
          <a:stretch/>
        </p:blipFill>
        <p:spPr>
          <a:xfrm>
            <a:off x="1042920" y="1262160"/>
            <a:ext cx="5219640" cy="5551560"/>
          </a:xfrm>
          <a:prstGeom prst="rect">
            <a:avLst/>
          </a:prstGeom>
          <a:ln w="0">
            <a:noFill/>
          </a:ln>
        </p:spPr>
      </p:pic>
      <p:sp>
        <p:nvSpPr>
          <p:cNvPr id="681" name="Prostokąt 4"/>
          <p:cNvSpPr/>
          <p:nvPr/>
        </p:nvSpPr>
        <p:spPr>
          <a:xfrm>
            <a:off x="6262560" y="2138400"/>
            <a:ext cx="288144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mieszkaniec UE emituje średnio 9,1 Mg CO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ndara"/>
              </a:rPr>
              <a:t>2e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jwięcej emituje: Luksemburg (23,1 Mg CO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ndara"/>
              </a:rPr>
              <a:t>2e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/mieszkańca), Estonia (13,7) Czechy (14,2) i Irlandia (12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jmniej: Łotwa (5,6), Rumunia (6,1), Szwecja (6,5) i Portugalia (6,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9966"/>
                </a:solidFill>
                <a:latin typeface="Candara"/>
              </a:rPr>
              <a:t>Polska (10,4 Mg CO</a:t>
            </a:r>
            <a:r>
              <a:rPr b="1" lang="pl-PL" sz="1600" spc="-1" strike="noStrike" baseline="-25000">
                <a:solidFill>
                  <a:srgbClr val="339966"/>
                </a:solidFill>
                <a:latin typeface="Candara"/>
              </a:rPr>
              <a:t>2e</a:t>
            </a:r>
            <a:r>
              <a:rPr b="1" lang="pl-PL" sz="1600" spc="-1" strike="noStrike">
                <a:solidFill>
                  <a:srgbClr val="339966"/>
                </a:solidFill>
                <a:latin typeface="Candara"/>
              </a:rPr>
              <a:t>/mieszkań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71280" y="20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4f271c"/>
                </a:solidFill>
                <a:latin typeface="Candara"/>
              </a:rPr>
              <a:t>Udział emisji gazów cieplarnianych w Polsce w 2011 r.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1044720" y="1916280"/>
            <a:ext cx="80643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42560" y="1196640"/>
            <a:ext cx="7705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34272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6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Analiza śladu ekologicznego jest narzędziem, który mierzy zapotrzebowanie człowieka na zasoby naturalne biosf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3720" indent="-34272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6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Ślad ekologiczny szacuje ilość powierzchni lądu i/lub powierzchni mórz wymaganej do rekompensaty zasobów zużytych na konsumpcję i absorpcję odpadów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3720" indent="-342720" algn="ctr">
              <a:lnSpc>
                <a:spcPct val="90000"/>
              </a:lnSpc>
              <a:spcBef>
                <a:spcPts val="1375"/>
              </a:spcBef>
              <a:buClr>
                <a:srgbClr val="4f271c"/>
              </a:buClr>
              <a:buSzPct val="8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3720" indent="-342720" algn="ctr">
              <a:lnSpc>
                <a:spcPct val="90000"/>
              </a:lnSpc>
              <a:spcBef>
                <a:spcPts val="1375"/>
              </a:spcBef>
              <a:buClr>
                <a:srgbClr val="4f271c"/>
              </a:buClr>
              <a:buSzPct val="8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71280" y="9360"/>
            <a:ext cx="81723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Ślad ekologiczn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225440" y="3193920"/>
            <a:ext cx="7667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6:47:20Z</dcterms:created>
  <dc:creator>DELL</dc:creator>
  <dc:description/>
  <dc:language>en-US</dc:language>
  <cp:lastModifiedBy>Joanna Kulczycka</cp:lastModifiedBy>
  <dcterms:modified xsi:type="dcterms:W3CDTF">2014-06-24T09:56:14Z</dcterms:modified>
  <cp:revision>76</cp:revision>
  <dc:subject/>
  <dc:title>Ślad węglowy - modele i zasady</dc:title>
</cp:coreProperties>
</file>