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110C-50DE-40AA-BD39-7842E1F3492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A5EF-2085-4160-817C-4251C40231FC}" type="slidenum">
              <a:rPr b="0" lang="pl-PL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AC8-0B78-4C1E-9218-0B479232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311-D18F-4F6A-9C35-3DA5D267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39422-320C-4B18-94CA-965ED246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B1714-1939-4E8D-AE5C-BCD1BA4D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1DEBB-5B5D-4D69-B0BD-E2A9DCCF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AC33D-FDEA-4DB1-B568-3CE9995C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FACB8-C650-475F-B2BC-A2C45ABD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8AA18-0F74-40DA-848C-A889FEFE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4BEE0-44DD-4A2B-BD12-50005778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9E20D-AFD0-4EF9-A7E7-5B07A9C1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CFF4A-792E-45E8-A1D9-CF4F03D7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1368B5-B11D-4314-B58C-C2BAEA49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121-E9F7-4484-896E-699C55D2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810D9-270B-457C-8C3E-6FEAF7AA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2EA95-9608-452F-8EF7-9C222AB9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4E0FF-C1A6-46CC-B75A-49FC8127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0655F-2521-48F9-A4FA-2823A0B3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1BEC2-D36C-4396-A9CE-F9BC07D9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26866-DFE8-47E3-8B9A-DC8299E0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FB496-8962-4C84-8578-F44012E2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C29A8-1474-4807-AE55-AF9052EA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25C81-C707-4D15-8F7B-BA82C341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20DE5-3DC4-4080-9426-CDDFEDAB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2239-18E9-4BD9-9A03-CDB88C8F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4A07F-661A-47AC-8115-9978367A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B5403-2CD2-4592-9662-6FE24F8E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72525-E76F-4040-86E6-B42056ED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56A45-95A4-4F96-9B69-AC4A4929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88304-2918-45AF-ACE8-700B4DFE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6429B-7FF2-4BBB-A57D-0F5B4988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1DA08-F380-4C74-9355-B77D1AAA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C9AD7-C718-4551-8425-8FFD73C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B310C-8740-4715-ABBE-EB3F8BAE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E84AB-2F27-4E01-BE15-D3C0197E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EDA3-FC63-4F65-8812-CA1365B2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47221-DAB3-4594-8AFF-AE64FECB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E5198-8D9F-4122-A374-66CF25AB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29EF5-6F04-488C-8304-BB4EFAE9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CE36A-3C8F-49E7-A706-2D837D3F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5F137-E04F-451A-AAC8-77A2AAD8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287E4-A6C8-40A5-A604-EAF8A118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EC129-5FB9-4CE3-8A20-9420582F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C842D-82B7-438C-A2F7-9155572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48AE0-10EF-47D0-BD41-E931F0FF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7795E-8445-4E40-893D-E66F7BA4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67C7-2E2B-45BF-89EF-FAC9582D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EFA65-5CB8-4560-9587-835A90F2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ACFAF-F1A0-4F87-9EA9-940E5BF1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17BFC-BE97-419F-93D7-730488E9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A8C51-A623-4C40-BA89-3D4E884E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67C2B-CDF8-4CFB-9FA6-B26F8636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90B61-FB2A-4EF2-9246-98DC0E45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A88F6-44D3-4FB6-BA0D-2C2A030C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FBAC2-37BF-4BDA-8152-31F91D07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64A723-A836-4021-83FF-D567AF39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BED46-19D0-4FC3-8E66-BB5F3F17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3D44-7C9C-49E6-B67C-82E68AF6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DE909-3575-433C-BDE0-8D8A1FB9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171A50-F761-41C9-96AD-355C4FD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3EDCD1-6ED6-4249-8735-A28A4E8E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E9FCC-0AA1-4AF6-92C5-5ED3C450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E1888-4B1F-4006-BC86-8F686DAD9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23074-BE27-4037-848C-B7E03EF8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2E78C-1727-4347-977B-AB5DF391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9C44-2A58-473D-90A2-D80CDFAD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D910-4483-4AE8-8B77-41BCFEC5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EF60-AD2D-4AD4-8F87-5B4A8C4F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78FF-6C9C-4512-8B9E-CE77C150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8299-1714-49AA-A0C9-39C69C5A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89E5-65B9-4B2F-A172-A4289014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09B8-FA97-4CC9-B43A-29220228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DEEC-537C-4EEA-A15E-5BD2B2A3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FF8E-2B3F-4E6C-B568-5B838424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C9D7-D14A-442C-ADFF-CFE9EB13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FB38-EFD6-41C5-AD07-90241B40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EBBD0-5480-4ABB-9289-7D9BC276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295C-44FD-47CC-A119-62612133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67BE-3A0F-47EF-B82F-CC50F56A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C42B-7A56-4393-823F-41EF23C2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B27D-209F-4A5C-990C-EBFDB2B0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80F8-69C5-4FBC-98AE-F499426C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BFC0-E737-48F4-9555-5824F938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F531-A41A-4CD0-9125-646EFF6C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2804C-6CBD-4D1A-95BB-AE155D1B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A257-C548-4131-A111-A24C0C3F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3AE5-305B-4F20-868D-645056D1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7472-B407-4D3D-B764-2D1D43FE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2D1AC-5A0E-4020-8924-8EED169E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CB611-DE69-490C-8C8A-7D515598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5A30-5FC5-40A9-9109-E57FA03A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C23-215B-412B-85C8-58F44399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4A694-9A8E-46E6-82B4-F75F4B32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1B2E0-1D2B-451E-A930-A5B73437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21CE5-BA1D-4D37-8A05-EBB86F1E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462B1-E2AD-46E6-B18E-8B724D36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61853-5103-48E7-8706-5B24AA18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3F1F1-5941-477E-B3F2-0FF675F1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1542-9373-48E7-9B70-03D1B5E2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DB55A-71F0-4636-8A26-26C77107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F700-4F94-41A9-B8EC-38A61EF4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200E2-FC15-40E5-AA84-842688C8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E3FF-4163-43F8-B099-C1EC4225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4832A-5EFF-41B7-8FF5-49527AB9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298F4-5388-4883-99FC-00C8C759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818E0-6E86-4DB9-AF80-263E70CC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20203-B0F4-4BB2-8851-78A81917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50872-184E-41EC-A428-E53D51C2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C000D-1EB8-48FB-86BF-A51740A0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B19C2-75AA-463B-8F17-022ABE33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6E90C-DC72-4880-A636-15224199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D3313-0DEC-4995-A8A5-DEA138DB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89D70-F8BC-4308-A052-4B30847B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072C-F5B2-42E0-9B9F-0D012987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59050-77DB-469C-87B0-4709BA36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EF8CE-7836-4F4D-8EEB-FB5309FA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764CC-4B06-4720-9928-C97E88E9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EF17C-CF8F-4095-8A06-4DD210E9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822B6-FDBC-48DF-8154-EDC54CC9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140A2-A2F6-487A-8A4E-79365B86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28DC2-712A-4508-A258-89C58E39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82847-5FD1-4CEA-B0D5-17ADFE9A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DEF1B-134E-4FE6-9FF0-8B9F6ABA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D1AD1-A834-4756-BAB0-3C4C022A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83E-ADF1-4D6C-8724-6CA65376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4698B-842C-4672-9120-7694EECA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E914C-9516-4186-9E44-2344EF00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43450-A8E0-4998-977F-6823A810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13A0A-0D61-4989-843D-E9296716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8A7C4-C387-4FC6-AD74-B7DF8EBC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942FC-A526-439B-A677-DF547794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3DFD7-20EC-4D07-948C-348163AF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F26C3-1404-42D1-8B63-32415C83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675F1-7A93-4C40-98EE-28CEFA16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5D10A-2FBC-4035-9C47-B69EC4E9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646D-6400-4339-957A-3937A37A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50393-2C56-4F45-AB51-552B6438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55C2F-DA12-4A52-B89C-7CB34014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D1838-4741-4E51-969C-927D4599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06269-87AF-44BF-BC6E-3B015F17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E3144-3848-43C5-B69C-8F5C6B4C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D5808-9F7E-485A-849F-9F11233E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6EF14-BF24-4919-B701-AF5EE530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9D1B6-9580-4470-8A1F-094BC589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3713F-902B-42D4-80B8-EC195469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B1CCF-68CA-41E0-BB3B-8ED4FC7C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C446-6220-4F91-B9F9-974BC361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36263-95D1-45FE-B4CD-FA5C4E51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B2457-6D6F-4C93-9A39-4D893346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35503-EF9D-4C20-99CE-4FFF773B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7D63A-F70A-4F6E-B7FF-F330D2E1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3CA7A-5E2F-4552-AED6-588E86C6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B077F-595F-4DE9-813B-25F2A268F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AFEED-C380-4D15-9E66-A4BD8EF5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F78E2-0D83-4AED-8E0A-3B7CAC64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CAE18-CC3D-44F8-BA57-2ABDB298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30DBF-CD67-4B30-9DEE-8A30439C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FF25-7CBF-4DBA-9602-A59C7E69500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Prostokąt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8" name="Prostokąt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0" name="Schemat blokowy: proce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chemat blokowy: proce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8041-5BDD-4E0E-9F9B-97A5D055C39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6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8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5F70-56D2-4145-A62D-C89DE562AE9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4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6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12AE-7BA7-4638-9A6D-3198EB3BF33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62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C178-5406-4C81-BDAF-5BC75560CE73}" type="slidenum">
              <a:rPr b="0" lang="pl-P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9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610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2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Elipsa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Elipsa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Elipsa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42A4-6652-4A3D-BE5A-B13DE66F8A9F}" type="slidenum">
              <a:rPr b="0" lang="pl-PL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3463-69DB-4476-A8EC-4FF643B42C2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rostokąt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Elipsa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Elipsa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Elipsa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80FF-36EF-4FEC-8EF4-3A1A9C043E5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9F75-23A3-4D8C-BE4C-787C6766882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EED5-8014-4C0E-8344-D21DC7A0CDA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ycinek koła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lipsa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Pierścień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Pierścień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9" name="Prostokąt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rostokąt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7E3D-FBFA-4659-88DA-E52AA44E27C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rostokąt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rostokąt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90E2-2444-413B-B1F1-52507BB8BFB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082E-6AB8-47AD-8785-1105546A57D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0.png"/><Relationship Id="rId2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4080" y="1668600"/>
            <a:ext cx="773748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572314"/>
                </a:solidFill>
                <a:latin typeface="Candara"/>
              </a:rPr>
              <a:t>Ślad węglowy – środowiskowy i ekologiczny i ich znaczenie dla energetyki </a:t>
            </a:r>
            <a:endParaRPr b="0" lang="en-US" sz="4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3058920" y="5084640"/>
            <a:ext cx="5400360" cy="126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20e04"/>
                </a:solidFill>
                <a:latin typeface="Gill Sans MT"/>
              </a:rPr>
              <a:t>dr hab. Joanna Kulczycka, prof. A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320e04"/>
                </a:solidFill>
                <a:latin typeface="Gill Sans MT"/>
              </a:rPr>
              <a:t>IGSMiE PAN Krakó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144360" y="-731880"/>
            <a:ext cx="1000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2" name="Picture 6" descr=""/>
          <p:cNvPicPr/>
          <p:nvPr/>
        </p:nvPicPr>
        <p:blipFill>
          <a:blip r:embed="rId1"/>
          <a:srcRect l="37456" t="0" r="0" b="0"/>
          <a:stretch/>
        </p:blipFill>
        <p:spPr>
          <a:xfrm>
            <a:off x="1400040" y="3500280"/>
            <a:ext cx="110016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ymbol zastępczy numeru slajdu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4AD8-3E67-421A-8FA9-F1770D017145}" type="slidenum">
              <a:rPr b="0" lang="pl-PL" sz="1100" spc="-1" strike="noStrike">
                <a:solidFill>
                  <a:srgbClr val="4d4d4d"/>
                </a:solidFill>
                <a:latin typeface="Tahoma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572314"/>
                </a:solidFill>
                <a:latin typeface="Candara"/>
              </a:rPr>
              <a:t>Ślad ekologiczny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9" name="Picture 4" descr=""/>
          <p:cNvPicPr/>
          <p:nvPr/>
        </p:nvPicPr>
        <p:blipFill>
          <a:blip r:embed="rId1"/>
          <a:stretch/>
        </p:blipFill>
        <p:spPr>
          <a:xfrm>
            <a:off x="993600" y="1557360"/>
            <a:ext cx="8150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8172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Ślad środowiskow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042560" y="1758960"/>
            <a:ext cx="777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1437"/>
              </a:spcBef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ndara"/>
              </a:rPr>
              <a:t>Ocena efektywności  środowiskowej  produktów, usług  i  organizacji na  podstawie  kompleksowej oceny  oddziaływania  na  środowisko  w  całym  cyklu życia (LCA),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533520" indent="-533520" algn="just">
              <a:lnSpc>
                <a:spcPct val="90000"/>
              </a:lnSpc>
              <a:spcBef>
                <a:spcPts val="1437"/>
              </a:spcBef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ndara"/>
              </a:rPr>
              <a:t>Analizę  śladu  środowiskowego  organizacji  prowadzi  się  w  ramach  nadrzędnego  celu, jakim  jest  dążenie  do  zmniejszenia  oddziaływania organizacji  na  środowisko,  uwzględniając  działania  w  łańcuchu dostaw  (począwszy  od  wydobycia  surowców,  poprzez  produkcję  i  eksploatację  produktów,  aż  po ostateczne  gospodarowanie  odpadami)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rostokąt 1"/>
          <p:cNvSpPr/>
          <p:nvPr/>
        </p:nvSpPr>
        <p:spPr>
          <a:xfrm>
            <a:off x="949320" y="5732640"/>
            <a:ext cx="8207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ndara"/>
                <a:ea typeface="Arial"/>
              </a:rPr>
              <a:t>Źródło: Zalecenie Komisji z dnia 9 kwietnia 2013 r. w sprawie stosowania wspólnych metod pomiaru efektywności środowiskowej w cyklu życia produktów i organizacji oraz informowania o niej, Dziennik Urzędowy L124 Unii Europejskiej, tom 56, ISSN 1997-0766, 20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4000" y="115560"/>
            <a:ext cx="76230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LCA – definicja UNEP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116000" y="134100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LCA jest procesem oceny efektów, jaki dany wyrób wywiera na środowisko podczas całego życia, poprzez wzrost efektywnego zużycia zasobów i zmniejszenie obciążeń środowiska (liabilities). Ocena wpływu na środowisko może być prowadzona zarówno dla wyrobu jak i dla funkcji. LCA jest traktowane jako „analiza od kołyski do grobu”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Podstawowymi elementami LCA są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zidentyfikowanie i ocena ilościowa obciążeń środowiska, tj. zużytych materiałów i energii oraz emisji, i odpadów wprowadzanych do środowiska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ocena potencjalnych wpływów tych obciążeń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oszacowanie dostępnych opcji w celu zmniejszenia obciążeń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  <a:ea typeface="Times New Roman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12D1-BDAD-48F1-BF06-D7CCFCD0B96C}" type="slidenum">
              <a:rPr b="0" lang="en-US" sz="1100" spc="-1" strike="noStrike">
                <a:solidFill>
                  <a:srgbClr val="4d4d4d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45880" y="115560"/>
            <a:ext cx="787068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Myślenie w kategoriach cyklu życi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97" name="Group 5"/>
          <p:cNvGrpSpPr/>
          <p:nvPr/>
        </p:nvGrpSpPr>
        <p:grpSpPr>
          <a:xfrm>
            <a:off x="1042920" y="1268280"/>
            <a:ext cx="8112960" cy="5617440"/>
            <a:chOff x="1042920" y="1268280"/>
            <a:chExt cx="8112960" cy="5617440"/>
          </a:xfrm>
        </p:grpSpPr>
        <p:grpSp>
          <p:nvGrpSpPr>
            <p:cNvPr id="698" name="Oval 6"/>
            <p:cNvGrpSpPr/>
            <p:nvPr/>
          </p:nvGrpSpPr>
          <p:grpSpPr>
            <a:xfrm>
              <a:off x="2984760" y="1682280"/>
              <a:ext cx="4065120" cy="4718520"/>
              <a:chOff x="2984760" y="1682280"/>
              <a:chExt cx="4065120" cy="4718520"/>
            </a:xfrm>
          </p:grpSpPr>
          <p:pic>
            <p:nvPicPr>
              <p:cNvPr id="699" name="Oval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984760" y="1682280"/>
                <a:ext cx="4065120" cy="471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"/>
              <p:cNvSpPr/>
              <p:nvPr/>
            </p:nvSpPr>
            <p:spPr>
              <a:xfrm>
                <a:off x="3632040" y="2399760"/>
                <a:ext cx="2770560" cy="32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1" name="Text Box 3"/>
            <p:cNvSpPr/>
            <p:nvPr/>
          </p:nvSpPr>
          <p:spPr>
            <a:xfrm>
              <a:off x="5280840" y="1939680"/>
              <a:ext cx="10429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Konsumpcja/używani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Text Box 5"/>
            <p:cNvSpPr/>
            <p:nvPr/>
          </p:nvSpPr>
          <p:spPr>
            <a:xfrm>
              <a:off x="5836680" y="4446360"/>
              <a:ext cx="128772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  </a:t>
              </a: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Ponowne użycie, odzysk,       r</a:t>
              </a:r>
              <a:r>
                <a:rPr b="0" lang="en-GB" sz="1400" spc="-1" strike="noStrike">
                  <a:solidFill>
                    <a:srgbClr val="003366"/>
                  </a:solidFill>
                  <a:latin typeface="Gill Sans MT"/>
                </a:rPr>
                <a:t>ecy</a:t>
              </a: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k</a:t>
              </a:r>
              <a:r>
                <a:rPr b="0" lang="en-GB" sz="1400" spc="-1" strike="noStrike">
                  <a:solidFill>
                    <a:srgbClr val="003366"/>
                  </a:solidFill>
                  <a:latin typeface="Gill Sans MT"/>
                </a:rPr>
                <a:t>ling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 Box 6"/>
            <p:cNvSpPr/>
            <p:nvPr/>
          </p:nvSpPr>
          <p:spPr>
            <a:xfrm>
              <a:off x="3925080" y="5195880"/>
              <a:ext cx="1452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Wydobycie zasobów i przeróbk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3076920" y="3234960"/>
              <a:ext cx="11574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Produkc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Text Box 6"/>
            <p:cNvSpPr/>
            <p:nvPr/>
          </p:nvSpPr>
          <p:spPr>
            <a:xfrm>
              <a:off x="2896200" y="4257720"/>
              <a:ext cx="114804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Projektowani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 Box 6"/>
            <p:cNvSpPr/>
            <p:nvPr/>
          </p:nvSpPr>
          <p:spPr>
            <a:xfrm>
              <a:off x="3655080" y="2072880"/>
              <a:ext cx="120924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Dystrybuc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Text Box 3"/>
            <p:cNvSpPr/>
            <p:nvPr/>
          </p:nvSpPr>
          <p:spPr>
            <a:xfrm>
              <a:off x="5964120" y="3179520"/>
              <a:ext cx="8809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Zbiórk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Text Box 33"/>
            <p:cNvSpPr/>
            <p:nvPr/>
          </p:nvSpPr>
          <p:spPr>
            <a:xfrm>
              <a:off x="4424760" y="3509640"/>
              <a:ext cx="117792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pl-PL" sz="1400" spc="-1" strike="noStrike">
                  <a:solidFill>
                    <a:srgbClr val="003366"/>
                  </a:solidFill>
                  <a:latin typeface="Gill Sans MT"/>
                </a:rPr>
                <a:t>Dobra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1" lang="pl-PL" sz="1400" spc="-1" strike="noStrike">
                  <a:solidFill>
                    <a:srgbClr val="003366"/>
                  </a:solidFill>
                  <a:latin typeface="Gill Sans MT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9" name="Grupa 34"/>
            <p:cNvGrpSpPr/>
            <p:nvPr/>
          </p:nvGrpSpPr>
          <p:grpSpPr>
            <a:xfrm>
              <a:off x="3782520" y="2170440"/>
              <a:ext cx="2364120" cy="3232440"/>
              <a:chOff x="3782520" y="2170440"/>
              <a:chExt cx="2364120" cy="3232440"/>
            </a:xfrm>
          </p:grpSpPr>
          <p:pic>
            <p:nvPicPr>
              <p:cNvPr id="710" name="Strzałka kolista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971880" y="2355480"/>
                <a:ext cx="2174760" cy="30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1" name="Picture 38" descr="j0437808"/>
              <p:cNvPicPr/>
              <p:nvPr/>
            </p:nvPicPr>
            <p:blipFill>
              <a:blip r:embed="rId3"/>
              <a:stretch/>
            </p:blipFill>
            <p:spPr>
              <a:xfrm>
                <a:off x="5384160" y="402300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2" name="Picture 12" descr="j0437811"/>
              <p:cNvPicPr/>
              <p:nvPr/>
            </p:nvPicPr>
            <p:blipFill>
              <a:blip r:embed="rId4"/>
              <a:stretch/>
            </p:blipFill>
            <p:spPr>
              <a:xfrm>
                <a:off x="4050000" y="261324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3" name="Picture 5" descr="j0437820"/>
              <p:cNvPicPr/>
              <p:nvPr/>
            </p:nvPicPr>
            <p:blipFill>
              <a:blip r:embed="rId5"/>
              <a:stretch/>
            </p:blipFill>
            <p:spPr>
              <a:xfrm>
                <a:off x="3989880" y="431244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4" name="Picture 9" descr="j0437852"/>
              <p:cNvPicPr/>
              <p:nvPr/>
            </p:nvPicPr>
            <p:blipFill>
              <a:blip r:embed="rId6"/>
              <a:stretch/>
            </p:blipFill>
            <p:spPr>
              <a:xfrm>
                <a:off x="5163480" y="2225520"/>
                <a:ext cx="670680" cy="96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5" name="Picture 5" descr="j0437816"/>
              <p:cNvPicPr/>
              <p:nvPr/>
            </p:nvPicPr>
            <p:blipFill>
              <a:blip r:embed="rId7"/>
              <a:stretch/>
            </p:blipFill>
            <p:spPr>
              <a:xfrm>
                <a:off x="3782520" y="345348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6" name="Picture 4" descr="j0437821"/>
              <p:cNvPicPr/>
              <p:nvPr/>
            </p:nvPicPr>
            <p:blipFill>
              <a:blip r:embed="rId8"/>
              <a:stretch/>
            </p:blipFill>
            <p:spPr>
              <a:xfrm>
                <a:off x="4592160" y="217044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7" name="Picture 7" descr="j0437855"/>
              <p:cNvPicPr/>
              <p:nvPr/>
            </p:nvPicPr>
            <p:blipFill>
              <a:blip r:embed="rId9"/>
              <a:stretch/>
            </p:blipFill>
            <p:spPr>
              <a:xfrm>
                <a:off x="5519880" y="3080520"/>
                <a:ext cx="529560" cy="820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18" name="Line 24" descr=""/>
            <p:cNvPicPr/>
            <p:nvPr/>
          </p:nvPicPr>
          <p:blipFill>
            <a:blip r:embed="rId10"/>
            <a:stretch/>
          </p:blipFill>
          <p:spPr>
            <a:xfrm>
              <a:off x="2393640" y="2334600"/>
              <a:ext cx="101304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Line 22" descr=""/>
            <p:cNvPicPr/>
            <p:nvPr/>
          </p:nvPicPr>
          <p:blipFill>
            <a:blip r:embed="rId11"/>
            <a:stretch/>
          </p:blipFill>
          <p:spPr>
            <a:xfrm>
              <a:off x="2315520" y="3547800"/>
              <a:ext cx="802080" cy="1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0" name="Picture 12" descr=""/>
            <p:cNvPicPr/>
            <p:nvPr/>
          </p:nvPicPr>
          <p:blipFill>
            <a:blip r:embed="rId12"/>
            <a:stretch/>
          </p:blipFill>
          <p:spPr>
            <a:xfrm>
              <a:off x="1127880" y="3379680"/>
              <a:ext cx="1289520" cy="12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13" descr=""/>
            <p:cNvPicPr/>
            <p:nvPr/>
          </p:nvPicPr>
          <p:blipFill>
            <a:blip r:embed="rId13"/>
            <a:stretch/>
          </p:blipFill>
          <p:spPr>
            <a:xfrm>
              <a:off x="1042920" y="5023080"/>
              <a:ext cx="1459440" cy="142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14"/>
            <p:cNvSpPr/>
            <p:nvPr/>
          </p:nvSpPr>
          <p:spPr>
            <a:xfrm>
              <a:off x="1127880" y="4672080"/>
              <a:ext cx="14025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648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Materiał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Text Box 15"/>
            <p:cNvSpPr/>
            <p:nvPr/>
          </p:nvSpPr>
          <p:spPr>
            <a:xfrm>
              <a:off x="1127880" y="6362640"/>
              <a:ext cx="17683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648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Wykorzystanie terenu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Text Box 16"/>
            <p:cNvSpPr/>
            <p:nvPr/>
          </p:nvSpPr>
          <p:spPr>
            <a:xfrm>
              <a:off x="1127880" y="1268280"/>
              <a:ext cx="165060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648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Zasoby, np.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Text Box 35"/>
            <p:cNvSpPr/>
            <p:nvPr/>
          </p:nvSpPr>
          <p:spPr>
            <a:xfrm>
              <a:off x="1127880" y="3036600"/>
              <a:ext cx="14025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6480" tIns="48240" bIns="4824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Energi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6" name="Picture 37" descr="1241437424ei21T8"/>
            <p:cNvPicPr/>
            <p:nvPr/>
          </p:nvPicPr>
          <p:blipFill>
            <a:blip r:embed="rId14"/>
            <a:stretch/>
          </p:blipFill>
          <p:spPr>
            <a:xfrm>
              <a:off x="1127880" y="1766520"/>
              <a:ext cx="128772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17" descr=""/>
            <p:cNvPicPr/>
            <p:nvPr/>
          </p:nvPicPr>
          <p:blipFill>
            <a:blip r:embed="rId15"/>
            <a:stretch/>
          </p:blipFill>
          <p:spPr>
            <a:xfrm>
              <a:off x="7569000" y="1749240"/>
              <a:ext cx="133272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Text Box 18"/>
            <p:cNvSpPr/>
            <p:nvPr/>
          </p:nvSpPr>
          <p:spPr>
            <a:xfrm>
              <a:off x="7451280" y="3036600"/>
              <a:ext cx="142920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0" tIns="48240" bIns="4824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Zmiany klimatu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9" name="Picture 19" descr=""/>
            <p:cNvPicPr/>
            <p:nvPr/>
          </p:nvPicPr>
          <p:blipFill>
            <a:blip r:embed="rId16"/>
            <a:stretch/>
          </p:blipFill>
          <p:spPr>
            <a:xfrm>
              <a:off x="7569000" y="3389040"/>
              <a:ext cx="1332720" cy="128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Text Box 20"/>
            <p:cNvSpPr/>
            <p:nvPr/>
          </p:nvSpPr>
          <p:spPr>
            <a:xfrm>
              <a:off x="7478280" y="4672080"/>
              <a:ext cx="14025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0" tIns="48240" bIns="4824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Gill Sans MT"/>
                </a:rPr>
                <a:t>E</a:t>
              </a: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utrofizac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Text Box 21"/>
            <p:cNvSpPr/>
            <p:nvPr/>
          </p:nvSpPr>
          <p:spPr>
            <a:xfrm>
              <a:off x="7129440" y="6362640"/>
              <a:ext cx="175104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0" tIns="48240" bIns="4824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Substancje toksyczn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2" name="Picture 36" descr="1241454099F5x65d"/>
            <p:cNvPicPr/>
            <p:nvPr/>
          </p:nvPicPr>
          <p:blipFill>
            <a:blip r:embed="rId17"/>
            <a:stretch/>
          </p:blipFill>
          <p:spPr>
            <a:xfrm>
              <a:off x="7569000" y="5090040"/>
              <a:ext cx="1332720" cy="12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Text Box 40"/>
            <p:cNvSpPr/>
            <p:nvPr/>
          </p:nvSpPr>
          <p:spPr>
            <a:xfrm>
              <a:off x="6109560" y="1282320"/>
              <a:ext cx="304632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0" tIns="48240" bIns="4824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pl-PL" sz="1400" spc="-1" strike="noStrike">
                  <a:solidFill>
                    <a:srgbClr val="ff0000"/>
                  </a:solidFill>
                  <a:latin typeface="Gill Sans MT"/>
                </a:rPr>
                <a:t>Zdrowie ludzkie i środowisko np.: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 Box 5"/>
            <p:cNvSpPr/>
            <p:nvPr/>
          </p:nvSpPr>
          <p:spPr>
            <a:xfrm>
              <a:off x="5436360" y="5068800"/>
              <a:ext cx="131760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58680"/>
                  <a:tab algn="l" pos="1917720"/>
                  <a:tab algn="l" pos="2876400"/>
                  <a:tab algn="l" pos="3835440"/>
                  <a:tab algn="l" pos="4794120"/>
                  <a:tab algn="l" pos="5753160"/>
                  <a:tab algn="l" pos="6711840"/>
                  <a:tab algn="l" pos="7670880"/>
                  <a:tab algn="l" pos="8629560"/>
                  <a:tab algn="l" pos="9588600"/>
                  <a:tab algn="l" pos="10547280"/>
                </a:tabLst>
              </a:pP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Odzysk e</a:t>
              </a:r>
              <a:r>
                <a:rPr b="0" lang="en-GB" sz="1400" spc="-1" strike="noStrike">
                  <a:solidFill>
                    <a:srgbClr val="003366"/>
                  </a:solidFill>
                  <a:latin typeface="Gill Sans MT"/>
                </a:rPr>
                <a:t>nerg</a:t>
              </a:r>
              <a:r>
                <a:rPr b="0" lang="pl-PL" sz="1400" spc="-1" strike="noStrike">
                  <a:solidFill>
                    <a:srgbClr val="003366"/>
                  </a:solidFill>
                  <a:latin typeface="Gill Sans MT"/>
                </a:rPr>
                <a:t>ii, składowani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35" name="Line 22" descr=""/>
            <p:cNvPicPr/>
            <p:nvPr/>
          </p:nvPicPr>
          <p:blipFill>
            <a:blip r:embed="rId18"/>
            <a:stretch/>
          </p:blipFill>
          <p:spPr>
            <a:xfrm>
              <a:off x="6959520" y="3547800"/>
              <a:ext cx="675360" cy="12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6" name="Line 24" descr=""/>
            <p:cNvPicPr/>
            <p:nvPr/>
          </p:nvPicPr>
          <p:blipFill>
            <a:blip r:embed="rId19"/>
            <a:stretch/>
          </p:blipFill>
          <p:spPr>
            <a:xfrm>
              <a:off x="2405880" y="5205960"/>
              <a:ext cx="101304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7" name="Line 24" descr=""/>
            <p:cNvPicPr/>
            <p:nvPr/>
          </p:nvPicPr>
          <p:blipFill>
            <a:blip r:embed="rId20"/>
            <a:stretch/>
          </p:blipFill>
          <p:spPr>
            <a:xfrm>
              <a:off x="6639840" y="5242320"/>
              <a:ext cx="101304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Line 24" descr=""/>
            <p:cNvPicPr/>
            <p:nvPr/>
          </p:nvPicPr>
          <p:blipFill>
            <a:blip r:embed="rId21"/>
            <a:stretch/>
          </p:blipFill>
          <p:spPr>
            <a:xfrm>
              <a:off x="6634080" y="2297880"/>
              <a:ext cx="1013040" cy="536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Symbol zastępczy zawartości 4" descr=""/>
          <p:cNvPicPr/>
          <p:nvPr/>
        </p:nvPicPr>
        <p:blipFill>
          <a:blip r:embed="rId1"/>
          <a:stretch/>
        </p:blipFill>
        <p:spPr>
          <a:xfrm>
            <a:off x="1177920" y="1557360"/>
            <a:ext cx="7877160" cy="4896000"/>
          </a:xfrm>
          <a:prstGeom prst="rect">
            <a:avLst/>
          </a:prstGeom>
          <a:ln w="0">
            <a:noFill/>
          </a:ln>
        </p:spPr>
      </p:pic>
      <p:sp>
        <p:nvSpPr>
          <p:cNvPr id="740" name="Title 1"/>
          <p:cNvSpPr/>
          <p:nvPr/>
        </p:nvSpPr>
        <p:spPr>
          <a:xfrm>
            <a:off x="1146240" y="115920"/>
            <a:ext cx="78706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  <a:ea typeface="Arial"/>
              </a:rPr>
              <a:t>Etapy cyklu ży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172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LCA –NORMY ISO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1115640" y="1600200"/>
            <a:ext cx="777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ISO 14040;2009 - Zarządzanie środowiskowe – ocena cyklu życia – zasady i struktura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ISO 14044;2009 - Zarządzanie środowiskowe – ocena cyklu życia – wymagania i wytyczn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71280" y="115560"/>
            <a:ext cx="808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ZIELONA ENERGIA ZMIANY SPOŁECZNEJ (ZEZS)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971280" y="1412640"/>
            <a:ext cx="7962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ZEZS to projekt mający na celu </a:t>
            </a:r>
            <a:r>
              <a:rPr b="1" lang="pl-PL" sz="2000" spc="-1" strike="noStrike">
                <a:solidFill>
                  <a:srgbClr val="00b050"/>
                </a:solidFill>
                <a:latin typeface="Candara"/>
              </a:rPr>
              <a:t>opracowanie innowacyjnego modelu wspierającego instytucje prospołeczne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m.in. poprzez wykorzystanie offsetowania emisji gazów cieplarnianych, w tym CO2, np. w formie inwestycji w zieloną energię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Realizacja projektu pozwoli rozwiązać szereg problemów związanych np. z </a:t>
            </a:r>
            <a:r>
              <a:rPr b="1" lang="pl-PL" sz="2000" spc="-1" strike="noStrike">
                <a:solidFill>
                  <a:srgbClr val="00b050"/>
                </a:solidFill>
                <a:latin typeface="Candara"/>
              </a:rPr>
              <a:t>poprawą efektywności energetycznej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gospodarki dzięki zmniejszaniu zużycia energii oraz emisji gazów cieplarnianych do atmosfery poprzez ich neutralizację (offsetowaniu). Dzięki temu  stworzy  się  podstawy dla gospodarki niskoemisyjnej, ograniczającej negatywny wpływ człowieka na klimat, a także rozbudzi innowacyjność i poprawi bezpieczeństwo energetyczn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Efektem projektu jest stworzenie </a:t>
            </a:r>
            <a:r>
              <a:rPr b="1" lang="pl-PL" sz="2000" spc="-1" strike="noStrike">
                <a:solidFill>
                  <a:srgbClr val="00b050"/>
                </a:solidFill>
                <a:latin typeface="Candara"/>
              </a:rPr>
              <a:t>innowacyjnego modelu offsetowania emisji CO</a:t>
            </a:r>
            <a:r>
              <a:rPr b="1" lang="pl-PL" sz="2000" spc="-1" strike="noStrike" baseline="-25000">
                <a:solidFill>
                  <a:srgbClr val="00b050"/>
                </a:solidFill>
                <a:latin typeface="Candara"/>
              </a:rPr>
              <a:t>2</a:t>
            </a:r>
            <a:r>
              <a:rPr b="1" lang="pl-PL" sz="2000" spc="-1" strike="noStrike">
                <a:solidFill>
                  <a:srgbClr val="00b050"/>
                </a:solidFill>
                <a:latin typeface="Candara"/>
              </a:rPr>
              <a:t>,</a:t>
            </a:r>
            <a:r>
              <a:rPr b="0" lang="pl-PL" sz="2000" spc="-1" strike="noStrike">
                <a:solidFill>
                  <a:srgbClr val="00b050"/>
                </a:solidFill>
                <a:latin typeface="Candar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która umożliwi  podmiotom i ich produktom uzyskanie miana „niskoemisyjny lub zeroemisyjny”, wzmacniając jego innowacyjność i konkurencyjność na rynku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i="1" lang="pl-PL" sz="1600" spc="-1" strike="noStrike">
                <a:solidFill>
                  <a:srgbClr val="000000"/>
                </a:solidFill>
                <a:latin typeface="Candara"/>
              </a:rPr>
              <a:t>Projekt dofinansowany przez Narodowe Centrum Badań i Rozwoju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5" name="Picture 6" descr="http://spory.gumed.edu.pl/image/image/14878/large/logo_ncbir_jpg.jpg"/>
          <p:cNvPicPr/>
          <p:nvPr/>
        </p:nvPicPr>
        <p:blipFill>
          <a:blip r:embed="rId1"/>
          <a:stretch/>
        </p:blipFill>
        <p:spPr>
          <a:xfrm>
            <a:off x="1055520" y="6226200"/>
            <a:ext cx="99540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4960" y="44280"/>
            <a:ext cx="7499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Horyzont 2020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434600" y="1447560"/>
            <a:ext cx="500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Efektywność energetyczna 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(17/21 topików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Konkurencyjne technologie niskoemisyjne 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(18/22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ndara"/>
              </a:rPr>
              <a:t>Inteligentne miasta i społeczności </a:t>
            </a:r>
            <a:r>
              <a:rPr b="0" lang="pl-PL" sz="2400" spc="-1" strike="noStrike">
                <a:solidFill>
                  <a:srgbClr val="000000"/>
                </a:solidFill>
                <a:latin typeface="Candara"/>
              </a:rPr>
              <a:t>(4) MŚP i szybka ścieżka do innowacji w dziedzinie energii (1) Inne działania (33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Candara"/>
              </a:rPr>
              <a:t>http://ec.europa.eu/research/participants/portal/desktop/en/home.htm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1"/>
          <a:srcRect l="7670" t="0" r="7696" b="0"/>
          <a:stretch/>
        </p:blipFill>
        <p:spPr>
          <a:xfrm>
            <a:off x="6443640" y="2060640"/>
            <a:ext cx="273672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34960" y="44280"/>
            <a:ext cx="7499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2314"/>
                </a:solidFill>
                <a:latin typeface="Candara"/>
              </a:rPr>
              <a:t>Główne cele EU w zakresie efektywności energetycznej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042920" y="1076040"/>
            <a:ext cx="7632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Stworzenie w Europie systemu energetycznego czystego, bezpiecznego i efektywnego, zapewniającego UE przemysłową pozycję lidera w niskoemisyjnych technologiach energetycznych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30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ozwój i przyspieszenie wprowadzania na rynek przystępnych cenowo i wydajnych rozwiązań technologicznych prowadzących w sposób zrównoważony do dekarbonizacji systemu energetycznego i zapewniających bezpieczeństwo energetyczne zgodnie z celami strategicznego planu w dziedzinie technologii energetycznych (SET-Plan) oraz związanych z nim regulacji (zwłaszcza dotyczących energii odnawialnej i dyrektywy CCS), a także polityki energetycznej w perspektywie roku 2020 oraz kształtowania ram dla rynku energii do roku 2030 i 2050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30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Redukcja do roku 2020 emisji gazów cieplarnianych o 20% poniżej poziomu z roku 1990 i następnie o 80-95% do roku 2050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30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Zwiększenie udziału odnawialnych źródeł energii. OZE powinny pokrywać 20% końcowego zużycia energii w 2020 i większą jego część w roku 2050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7308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ndara"/>
              </a:rPr>
              <a:t>W sektorze transportu zmniejszenie emisji gazów cieplarnianych do roku 2030 o około 20% poniżej poziomu z 2008 i przynajmniej o 60% do roku 2050 w stosunku do roku 1990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34960" y="44280"/>
            <a:ext cx="7499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2314"/>
                </a:solidFill>
                <a:latin typeface="Candara"/>
              </a:rPr>
              <a:t>Inteligentne  miasta i społeczności – główne cel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042920" y="1076040"/>
            <a:ext cx="7632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Gill Sans MT"/>
              </a:rPr>
              <a:t>Inteligentne miasta i społeczności (</a:t>
            </a:r>
            <a:r>
              <a:rPr b="1" i="1" lang="pl-PL" sz="1800" spc="-1" strike="noStrike">
                <a:solidFill>
                  <a:srgbClr val="000000"/>
                </a:solidFill>
                <a:latin typeface="Gill Sans MT"/>
              </a:rPr>
              <a:t>Smart cities and communities</a:t>
            </a:r>
            <a:r>
              <a:rPr b="1" lang="pl-PL" sz="18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68% populacji EU żyje w miastach i wykorzystuje 70% energii. Zrównoważony rozwój obszarów miejskich jest kluczowym wyzwaniem wymagającym zintegrowanego podejścia Główne cele EU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spieszenie upowszechniania innowacyjnych technologii i usług, rozwiązań organizacyjnych i ekonomicznych wymagających międzysektorowego podejścia w obszarze energii, transportu i ICT w miastach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upowszechnianie wyników udanych rozwiązań, usuwanie barier dla innowacji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przyspieszenie komercyjnego wdrażania rozwiązań i wsparcie działań rynkowych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racjonalizacja i konsolidacja rozwiązań dla inteligentnych miast,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zapewnienie spójności uregulowań prawnych oraz standardów polityki i finansowania projektów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80640" y="-360"/>
            <a:ext cx="8163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Ślad węglow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128240" y="1312920"/>
            <a:ext cx="7417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</a:rPr>
              <a:t>Ślad węglowy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– jest to całkowita ilość emisji C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 i innych gazów cieplarnianych w odniesieniu do produktu, emisji wynikającej z cyklu życia tego produktu, włączając jego składowanie i unieszkodliwiani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ielkość emisji podawana jest w ekwiwalencie dwutlenku węgla – C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e. Pozwala ona na przeliczenie na tonę ekwiwalentu dwutlenku węgla (Mg C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ndara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e) emisji pozostałych gazów cieplarnianych, zgodnie z metodyką zaproponowaną przez Międzyrządowy Panel ds. Zmian Klimatu IPCC (Intergovernmental Panel on Climate Change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5" name="Picture 6" descr=""/>
          <p:cNvPicPr/>
          <p:nvPr/>
        </p:nvPicPr>
        <p:blipFill>
          <a:blip r:embed="rId1"/>
          <a:srcRect l="37456" t="0" r="0" b="0"/>
          <a:stretch/>
        </p:blipFill>
        <p:spPr>
          <a:xfrm>
            <a:off x="8028000" y="4183200"/>
            <a:ext cx="11001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44280"/>
            <a:ext cx="7499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Główne obszary działań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042920" y="1220400"/>
            <a:ext cx="7632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77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</a:rPr>
              <a:t>Konkurencyjna energia niskoemisyjna </a:t>
            </a:r>
            <a:r>
              <a:rPr b="0" i="1" lang="pl-PL" sz="2000" spc="-1" strike="noStrike">
                <a:solidFill>
                  <a:srgbClr val="000000"/>
                </a:solidFill>
                <a:latin typeface="Candara"/>
              </a:rPr>
              <a:t>(22 topiki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Nowa wiedza i technologie (1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Odnawialna energia elektryczna, ogrzewanie i chłodzenie (3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Modernizacja europejskich sieci energetycznych (2/3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Zapewnienie elastyczności systemu energetycznego przez udoskonalone technologie magazynowania energii (1/3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Zrównoważone biopaliwa i paliwa alternatywne dla transportu europejskiego (3/4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łączenie zrównoważonego wykorzystania paliw kopalnych w proces przechodzenia do gospodarki niskoemisyjnej (3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sparcie rozwoju badań europejskich w obszarze energii (2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Społeczne, środowiskowe i ekonomiczne aspekty systemów energetycznych (2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7400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Zagadnienia przekrojowe (1/2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42560" y="54000"/>
            <a:ext cx="81010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EWT - Program Europa Środkow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042560" y="1268280"/>
            <a:ext cx="7705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Gill Sans MT"/>
              </a:rPr>
              <a:t>Celem transnarodowego programu Europa Środkowa jest współpraca ponad granicami, która zmienia miasta i regiony, czyniąc je lepszymi miejscami do życia i pracy. Cel ten zostanie osiągnięty poprzez koncentrację działań programu na priorytetach takich jak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8880" indent="-457200" algn="just">
              <a:lnSpc>
                <a:spcPct val="80000"/>
              </a:lnSpc>
              <a:spcBef>
                <a:spcPts val="550"/>
              </a:spcBef>
              <a:buClr>
                <a:srgbClr val="4f271c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spółpraca w zakresie innowacji na rzecz zwiększenia konkurencyjności Europy Środkowej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58880" indent="-457200" algn="just">
              <a:lnSpc>
                <a:spcPct val="80000"/>
              </a:lnSpc>
              <a:spcBef>
                <a:spcPts val="550"/>
              </a:spcBef>
              <a:buClr>
                <a:srgbClr val="4f271c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spółpraca w zakresie strategii niskoemisyjnych w Europie Środkowej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58880" indent="-457200" algn="just">
              <a:lnSpc>
                <a:spcPct val="80000"/>
              </a:lnSpc>
              <a:spcBef>
                <a:spcPts val="550"/>
              </a:spcBef>
              <a:buClr>
                <a:srgbClr val="4f271c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spółpraca w zakresie zasobów naturalnych i kulturowych na rzecz trwałego wzrostu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58880" indent="-457200" algn="just">
              <a:lnSpc>
                <a:spcPct val="80000"/>
              </a:lnSpc>
              <a:spcBef>
                <a:spcPts val="550"/>
              </a:spcBef>
              <a:buClr>
                <a:srgbClr val="4f271c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Gill Sans MT"/>
              </a:rPr>
              <a:t>Współpraca na rzecz poprawy powiązań transportowych Europy Środkowej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Gill Sans MT"/>
              </a:rPr>
              <a:t>Program w latach 2014-2020 będzie wspierał głównie działania o charakterze nieinwestycyjnym. W ramach projektów możliwa będzie jednak realizacja inwestycji o charakterze pilotażowym lub demonstracyjnym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71280" y="115920"/>
            <a:ext cx="81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2314"/>
                </a:solidFill>
                <a:latin typeface="Candara"/>
              </a:rPr>
              <a:t>EWT- Program Region Morza Bałtyckiego 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ndara"/>
              </a:rPr>
              <a:t>Cel główny </a:t>
            </a:r>
            <a:r>
              <a:rPr b="0" lang="pl-PL" sz="2500" spc="-1" strike="noStrike">
                <a:solidFill>
                  <a:srgbClr val="000000"/>
                </a:solidFill>
                <a:latin typeface="Candara"/>
              </a:rPr>
              <a:t>programu: Wzmocnienie zintegrowanego rozwoju terytorialnego i współpracy na rzecz bardziej innowacyjnego, lepiej dostępnego i zrównoważonego Regionu Morza Bałtyckiego.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ndara"/>
              </a:rPr>
              <a:t>Budżet: </a:t>
            </a:r>
            <a:r>
              <a:rPr b="0" lang="pl-PL" sz="2500" spc="-1" strike="noStrike">
                <a:solidFill>
                  <a:srgbClr val="000000"/>
                </a:solidFill>
                <a:latin typeface="Candara"/>
              </a:rPr>
              <a:t>264 mln euro (EFRR) oraz ok. 6 mln euro ze środków Norwegii, wkład EIS nie jest jeszcze znany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Candara"/>
              </a:rPr>
              <a:t>Priorytety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28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ndara"/>
              </a:rPr>
              <a:t>2. Efektywne gospodarowanie zasobami naturalnymi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28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2.2 Energia odnawialn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28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2.3 Efektywność energetyczn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2865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ndara"/>
              </a:rPr>
              <a:t>2.4 Zasobooszczędny niebieski wzrost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43920"/>
            <a:ext cx="81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EWT - Program INTERREG Europa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042560" y="907560"/>
            <a:ext cx="7705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ndara"/>
              </a:rPr>
              <a:t>Cel ogólny programu: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Poprawa wdrażania polityk i programów rozwoju regionalnego poprzez promowanie wymiany doświadczeń i pogłębiania wiedzy w wybranych obszarach polityki, wśród podmiotów regionalnych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31840" indent="-23184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Cele w obszarze energetyka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31840" algn="just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Oś priorytetowa 3: </a:t>
            </a:r>
            <a:r>
              <a:rPr b="0" i="1" lang="pl-PL" sz="2000" spc="-1" strike="noStrike">
                <a:solidFill>
                  <a:srgbClr val="000000"/>
                </a:solidFill>
                <a:latin typeface="Candara"/>
              </a:rPr>
              <a:t>Gospodarka niskoemisyjna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(Cel tematyczny 4: </a:t>
            </a:r>
            <a:r>
              <a:rPr b="0" i="1" lang="pl-PL" sz="2000" spc="-1" strike="noStrike">
                <a:solidFill>
                  <a:srgbClr val="000000"/>
                </a:solidFill>
                <a:latin typeface="Candara"/>
              </a:rPr>
              <a:t>Wspieranie przejścia na gospodarkę niskoemisyjną we wszystkich sektorach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): Promowanie strategii niskoemisyjnych dla wszystkich rodzajów terytoriów, w szczególności dla obszarów miejskich, w tym wspieranie zrównoważonej multimodalnej mobilności miejskiej i działań adaptacyjnych mających oddziaływanie łagodzące na zmiany klimatu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31840">
              <a:lnSpc>
                <a:spcPct val="100000"/>
              </a:lnSpc>
              <a:spcBef>
                <a:spcPts val="550"/>
              </a:spcBef>
              <a:buClr>
                <a:srgbClr val="4f271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Oś priorytetowa 4: </a:t>
            </a:r>
            <a:r>
              <a:rPr b="0" i="1" lang="pl-PL" sz="2000" spc="-1" strike="noStrike">
                <a:solidFill>
                  <a:srgbClr val="000000"/>
                </a:solidFill>
                <a:latin typeface="Candara"/>
              </a:rPr>
              <a:t>Środowisko i efektywne gospodarowanie zasobami 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(Cel tematyczny 6: </a:t>
            </a:r>
            <a:r>
              <a:rPr b="0" i="1" lang="pl-PL" sz="2000" spc="-1" strike="noStrike">
                <a:solidFill>
                  <a:srgbClr val="000000"/>
                </a:solidFill>
                <a:latin typeface="Candara"/>
              </a:rPr>
              <a:t>Ochrona środowiska i promowanie efektywnego gospodarowania zasobami</a:t>
            </a: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): Zachowanie, ochrona, promowanie i rozwój dziedzictwa naturalnego i kulturoweg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042920" y="220464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572314"/>
                </a:solidFill>
                <a:latin typeface="Candara"/>
              </a:rPr>
              <a:t>Dziękuję za uwagę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62" name="Picture 6" descr=""/>
          <p:cNvPicPr/>
          <p:nvPr/>
        </p:nvPicPr>
        <p:blipFill>
          <a:blip r:embed="rId1"/>
          <a:srcRect l="37456" t="0" r="0" b="0"/>
          <a:stretch/>
        </p:blipFill>
        <p:spPr>
          <a:xfrm>
            <a:off x="7380360" y="3701880"/>
            <a:ext cx="109836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Cele strategii Europa 2020 i KPR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764" name=""/>
          <p:cNvGraphicFramePr/>
          <p:nvPr/>
        </p:nvGraphicFramePr>
        <p:xfrm>
          <a:off x="1116000" y="1341360"/>
          <a:ext cx="8028000" cy="5121360"/>
        </p:xfrm>
        <a:graphic>
          <a:graphicData uri="http://schemas.openxmlformats.org/drawingml/2006/table">
            <a:tbl>
              <a:tblPr/>
              <a:tblGrid>
                <a:gridCol w="2676600"/>
                <a:gridCol w="2674800"/>
                <a:gridCol w="26766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Główne cele strategii „Europa 2020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64305"/>
                      </a:solidFill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9643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Obecna sytuacja w Pols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96430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Cel krajowej strategii 2020 w K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964305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zeznaczenie 3 % PKB UE na inwestyc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 badania i rozwó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64305"/>
                      </a:solidFill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74 % (2010 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,7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2012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graniczenie emisji gazów cieplarnianych 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 % w porównaniu z 1990 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64305"/>
                      </a:solidFill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4,5 % (prognozy na r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20 w porównaniu z 2005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+12 % (emisje w 2010 r. 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orównaniu z 2005 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krajowy wiążący cel d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ektorów nieobjęt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TS, w porównaniu 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05 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zyskiwanie 20 % energii z odnawialn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źródeł energ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64305"/>
                      </a:solidFill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,4 % (2010 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efe9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Wzrost efektywności energetycznej o 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964305"/>
                      </a:solidFill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6,9 Mtoe (2010 r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6 Mt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Zmniejszenie o 1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t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964305"/>
                      </a:solidFill>
                    </a:lnR>
                    <a:lnT w="5760">
                      <a:solidFill>
                        <a:srgbClr val="964305"/>
                      </a:solidFill>
                    </a:lnT>
                    <a:lnB w="5760">
                      <a:solidFill>
                        <a:srgbClr val="964305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042560" y="43920"/>
            <a:ext cx="81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Candara"/>
              </a:rPr>
              <a:t>IPCC 2013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560" y="1289160"/>
            <a:ext cx="7705800" cy="13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ersja 5 raportu dotyczącego współczynników GWP (Global Warming Potential) dla analizy śladu węgloweg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8" name="Picture 2" descr=""/>
          <p:cNvPicPr/>
          <p:nvPr/>
        </p:nvPicPr>
        <p:blipFill>
          <a:blip r:embed="rId1"/>
          <a:stretch/>
        </p:blipFill>
        <p:spPr>
          <a:xfrm>
            <a:off x="1322280" y="2262240"/>
            <a:ext cx="749772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16000" y="115920"/>
            <a:ext cx="7818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Norma ISO 14067:2013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042920" y="980640"/>
            <a:ext cx="7850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Gill Sans MT"/>
              </a:rPr>
              <a:t>ISO 14067 - </a:t>
            </a:r>
            <a:r>
              <a:rPr b="0" lang="en-US" sz="1700" spc="-1" strike="noStrike">
                <a:solidFill>
                  <a:srgbClr val="000000"/>
                </a:solidFill>
                <a:latin typeface="Gill Sans MT"/>
              </a:rPr>
              <a:t>Greenhouse gases. Carbon footprint of products. Requirements and guidelines for quantification and communication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określenie wymogów dla metod związanych z CFP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ułatwienie śledzenia emisji GHG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tworzenie spójnych i efektywnych procedur informacyjnych CFP dla zainteresowanych stron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umożliwienie lepszego zrozumienia CFP dzięki czemu źródła emisji GHG mogą zostać zidentyfikowane i w efekcie obniżone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dostarczanie informacji o CFP, na bazie których konsumenci będą mogli podejmować świadome decyzje na temat kupowanych produktów i ich wpływu na emisje GHG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tworzenie prawidłowych i porównywalnych wzorców komunikacji w zakresie CFP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zwiększenie wiarygodności, spójności, przejrzystości i sprawozdawczości komunikatów CFP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ułatwienie oceny różnych wariantów projektowania produktów oraz metod produkcji, zaopatrzenia i produkcji, wyboru surowców, oceny recyklingu i innych faz procesów,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81000" algn="just">
              <a:lnSpc>
                <a:spcPct val="80000"/>
              </a:lnSpc>
              <a:spcBef>
                <a:spcPts val="201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Candara"/>
              </a:rPr>
              <a:t>usprawnienie zasad wdrażania strategii planowana i zarządzania gazami cieplarnianymi w całym cyklu życia produktu, jak również zidentyfikowania potencjalnych „oszczędności” w całym łańcuchu dostaw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572314"/>
                </a:solidFill>
                <a:latin typeface="Candara"/>
              </a:rPr>
              <a:t>Określenie śladu węglowego ma za zadanie </a:t>
            </a:r>
            <a:br>
              <a:rPr sz="3200"/>
            </a:br>
            <a:r>
              <a:rPr b="1" lang="pl-PL" sz="1800" spc="-1" strike="noStrike">
                <a:solidFill>
                  <a:srgbClr val="572314"/>
                </a:solidFill>
                <a:latin typeface="Candara"/>
              </a:rPr>
              <a:t>(Norma ISO 14067:2013)</a:t>
            </a:r>
            <a:endParaRPr b="0" lang="en-US" sz="1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971640" y="2184480"/>
            <a:ext cx="703872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4880" indent="-342720" algn="just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dostarczanie informacji dla konsumentów oraz innych stron na temat ich wpływu na środowisko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34880" indent="-342720" algn="just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podnoszenie świadomości ekologicznej konsumentów oraz angażowanie ich w problematykę środowiskową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34880" indent="-342720" algn="just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spieranie organizacji w celu śledzenia zmian klimatycznych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34880" indent="-342720" algn="just">
              <a:lnSpc>
                <a:spcPct val="100000"/>
              </a:lnSpc>
              <a:spcBef>
                <a:spcPts val="1500"/>
              </a:spcBef>
              <a:buClr>
                <a:srgbClr val="4f271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wspieranie implementowania polityki w zakresie zarządzania zmianami klimatycznym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73" name="Picture 2" descr="http://home.agh.edu.pl/%7Egradkow/head/head-images/Logo.png"/>
          <p:cNvPicPr/>
          <p:nvPr/>
        </p:nvPicPr>
        <p:blipFill>
          <a:blip r:embed="rId1"/>
          <a:stretch/>
        </p:blipFill>
        <p:spPr>
          <a:xfrm>
            <a:off x="7740720" y="692280"/>
            <a:ext cx="815760" cy="12571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" descr=""/>
          <p:cNvPicPr/>
          <p:nvPr/>
        </p:nvPicPr>
        <p:blipFill>
          <a:blip r:embed="rId2"/>
          <a:srcRect l="37456" t="0" r="0" b="0"/>
          <a:stretch/>
        </p:blipFill>
        <p:spPr>
          <a:xfrm>
            <a:off x="8010360" y="4143240"/>
            <a:ext cx="1098720" cy="26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9040" y="-27000"/>
            <a:ext cx="7024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Kalkulatory śladu węglowego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042920" y="981000"/>
          <a:ext cx="6913800" cy="5478480"/>
        </p:xfrm>
        <a:graphic>
          <a:graphicData uri="http://schemas.openxmlformats.org/drawingml/2006/table">
            <a:tbl>
              <a:tblPr/>
              <a:tblGrid>
                <a:gridCol w="3494160"/>
                <a:gridCol w="3419640"/>
              </a:tblGrid>
              <a:tr h="295200"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Naz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U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25440">
                <a:tc gridSpan="2"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Online / wpływ bezpośredni emitowany przez użytkow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The Carbon Acc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thecarbonaccoun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272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the Carbon Di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carbondiet.o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4308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The Nature Conservancy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nature.o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272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Carbon Footprint Calcu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epa.g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3524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Fundacja Aeris Fut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http://aerisfuturo.pl/kalkulator/index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5232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Fundacja Partnerstwo na rzecz środowisk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http://ziemianarozdrozu.pl/kalku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4128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Bio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http://biocity.pl/pl/kalku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3080">
                <a:tc gridSpan="2"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Bezpośrednie / pośred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Carbon Footprint Lt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calculator.carbonfootprint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308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CO2List.o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co2list.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42720">
                <a:tc gridSpan="2"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Specjalisty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52200" rIns="52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Travel Matters, US Transit 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 u="sng">
                          <a:solidFill>
                            <a:srgbClr val="000000"/>
                          </a:solidFill>
                          <a:uFillTx/>
                          <a:latin typeface="Candara"/>
                        </a:rPr>
                        <a:t>travelmatters.o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200" marR="52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677" name="Picture 6" descr=""/>
          <p:cNvPicPr/>
          <p:nvPr/>
        </p:nvPicPr>
        <p:blipFill>
          <a:blip r:embed="rId1"/>
          <a:srcRect l="37456" t="0" r="0" b="0"/>
          <a:stretch/>
        </p:blipFill>
        <p:spPr>
          <a:xfrm>
            <a:off x="8010360" y="4143240"/>
            <a:ext cx="1098720" cy="26704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" descr="http://home.agh.edu.pl/%7Egradkow/head/head-images/Logo.png"/>
          <p:cNvPicPr/>
          <p:nvPr/>
        </p:nvPicPr>
        <p:blipFill>
          <a:blip r:embed="rId2"/>
          <a:stretch/>
        </p:blipFill>
        <p:spPr>
          <a:xfrm>
            <a:off x="8075520" y="836640"/>
            <a:ext cx="8161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2560" y="-2736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4f271c"/>
                </a:solidFill>
                <a:latin typeface="Candara"/>
              </a:rPr>
              <a:t>Wielkość emisji CO2e na mieszkańca w krajach UE27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0" name="Obraz 3" descr=""/>
          <p:cNvPicPr/>
          <p:nvPr/>
        </p:nvPicPr>
        <p:blipFill>
          <a:blip r:embed="rId1"/>
          <a:srcRect l="675" t="1221" r="2670" b="1728"/>
          <a:stretch/>
        </p:blipFill>
        <p:spPr>
          <a:xfrm>
            <a:off x="1042920" y="1262160"/>
            <a:ext cx="5219640" cy="5551560"/>
          </a:xfrm>
          <a:prstGeom prst="rect">
            <a:avLst/>
          </a:prstGeom>
          <a:ln w="0">
            <a:noFill/>
          </a:ln>
        </p:spPr>
      </p:pic>
      <p:sp>
        <p:nvSpPr>
          <p:cNvPr id="681" name="Prostokąt 4"/>
          <p:cNvSpPr/>
          <p:nvPr/>
        </p:nvSpPr>
        <p:spPr>
          <a:xfrm>
            <a:off x="6262560" y="2138400"/>
            <a:ext cx="288144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mieszkaniec UE emituje średnio 9,1 Mg CO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Candara"/>
              </a:rPr>
              <a:t>2e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jwięcej emituje: Luksemburg (23,1 Mg CO</a:t>
            </a:r>
            <a:r>
              <a:rPr b="0" lang="pl-PL" sz="1600" spc="-1" strike="noStrike" baseline="-25000">
                <a:solidFill>
                  <a:srgbClr val="000000"/>
                </a:solidFill>
                <a:latin typeface="Candara"/>
              </a:rPr>
              <a:t>2e</a:t>
            </a: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/mieszkańca), Estonia (13,7) Czechy (14,2) i Irlandia (12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ndara"/>
              </a:rPr>
              <a:t>najmniej: Łotwa (5,6), Rumunia (6,1), Szwecja (6,5) i Portugalia (6,6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lnSpc>
                <a:spcPct val="100000"/>
              </a:lnSpc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9966"/>
                </a:solidFill>
                <a:latin typeface="Candara"/>
              </a:rPr>
              <a:t>Polska (10,4 Mg CO</a:t>
            </a:r>
            <a:r>
              <a:rPr b="1" lang="pl-PL" sz="1600" spc="-1" strike="noStrike" baseline="-25000">
                <a:solidFill>
                  <a:srgbClr val="339966"/>
                </a:solidFill>
                <a:latin typeface="Candara"/>
              </a:rPr>
              <a:t>2e</a:t>
            </a:r>
            <a:r>
              <a:rPr b="1" lang="pl-PL" sz="1600" spc="-1" strike="noStrike">
                <a:solidFill>
                  <a:srgbClr val="339966"/>
                </a:solidFill>
                <a:latin typeface="Candara"/>
              </a:rPr>
              <a:t>/mieszkańca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71280" y="20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4f271c"/>
                </a:solidFill>
                <a:latin typeface="Candara"/>
              </a:rPr>
              <a:t>Udział emisji gazów cieplarnianych w Polsce w 2011 r.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1044720" y="1916280"/>
            <a:ext cx="806436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042560" y="1196640"/>
            <a:ext cx="77058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3720" indent="-34272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60000"/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Analiza śladu ekologicznego jest narzędziem, który mierzy zapotrzebowanie człowieka na zasoby naturalne biosfer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3720" indent="-342720" algn="just">
              <a:lnSpc>
                <a:spcPct val="100000"/>
              </a:lnSpc>
              <a:spcBef>
                <a:spcPts val="601"/>
              </a:spcBef>
              <a:buClr>
                <a:srgbClr val="4f271c"/>
              </a:buClr>
              <a:buSzPct val="60000"/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Ślad ekologiczny szacuje ilość powierzchni lądu i/lub powierzchni mórz wymaganej do rekompensaty zasobów zużytych na konsumpcję i absorpcję odpadów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3720" indent="-342720" algn="ctr">
              <a:lnSpc>
                <a:spcPct val="90000"/>
              </a:lnSpc>
              <a:spcBef>
                <a:spcPts val="1375"/>
              </a:spcBef>
              <a:buClr>
                <a:srgbClr val="4f271c"/>
              </a:buClr>
              <a:buSzPct val="80000"/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3720" indent="-342720" algn="ctr">
              <a:lnSpc>
                <a:spcPct val="90000"/>
              </a:lnSpc>
              <a:spcBef>
                <a:spcPts val="1375"/>
              </a:spcBef>
              <a:buClr>
                <a:srgbClr val="4f271c"/>
              </a:buClr>
              <a:buSzPct val="80000"/>
              <a:buFont typeface="Candar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71280" y="9360"/>
            <a:ext cx="817236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572314"/>
                </a:solidFill>
                <a:latin typeface="Candara"/>
              </a:rPr>
              <a:t>Ślad ekologiczny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1225440" y="3193920"/>
            <a:ext cx="7667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6:47:20Z</dcterms:created>
  <dc:creator>DELL</dc:creator>
  <dc:description/>
  <dc:language>en-US</dc:language>
  <cp:lastModifiedBy>Joanna Kulczycka</cp:lastModifiedBy>
  <dcterms:modified xsi:type="dcterms:W3CDTF">2014-06-24T09:56:14Z</dcterms:modified>
  <cp:revision>76</cp:revision>
  <dc:subject/>
  <dc:title>Ślad węglowy - modele i zasady</dc:title>
</cp:coreProperties>
</file>